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6F0E-190E-4C36-B62F-DD43A242FD66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Demo with magnet, coil and galvan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revents violation of cons of energy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Qu 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How voltage is induced in terms of forces on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Qu 1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90098-FBA1-4096-8EFD-E2577BE3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CFA9-DA3F-415F-9007-77D838D4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2BD0-F0F9-4A63-969E-C37CDF85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8702-BC92-4BB2-AA73-FFDE7E5B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2A54-2DE8-44E8-BA39-45DEAA7E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F5D7-80B1-48D8-B968-A1827B3D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2734-4D34-4229-9A48-ADFA2D07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60B9-9D39-461F-9DE7-4BCFD628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9232-ABC4-4905-A538-A8C9F318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1F42-D28F-444E-80D1-3C81898B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232C-7E09-46A2-B742-31ED5420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C2B3-D443-42EF-B810-03681126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7730-D8CD-450E-AE72-BD152158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23BF-C83C-476E-AF77-A7831091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8B75-0E36-4EC2-89E3-FCABE175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0FC0-B3B6-42A3-8273-2888C38C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A523-F6F6-462B-BFD0-E474E853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5D8E-47C9-4A75-96F7-70563E8A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67B4-454C-4E85-A21C-1EA015B5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936F-E424-42F9-82D4-66BE85DA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332F9-5A8B-4CBB-BCDD-995B5433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DD8B-A2E4-4710-9C8D-99B15077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BA93-73EC-439D-B561-C6060971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2B93-9078-4B98-B055-E09F6092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262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40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4949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414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03e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3938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3938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1C07-08D7-491B-A5AF-40D062180BF9}" type="slidenum"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e3e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262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40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4949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414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03e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494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494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C1FC-F1B8-46FA-A83D-21271CE6CD5B}" type="slidenum"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e3e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ffff99"/>
                </a:solidFill>
                <a:latin typeface="Arial"/>
              </a:rPr>
              <a:t>Magnetism and Induction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NCEA AS 3.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ext Chapters: 15,16,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Indu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76438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nduction can also occur if it is the magnetic field that is moved, rather than the w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806436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Magnetic Flux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587520" y="1600200"/>
            <a:ext cx="3408120" cy="4533840"/>
          </a:xfrm>
          <a:prstGeom prst="rect">
            <a:avLst/>
          </a:prstGeom>
          <a:ln w="0">
            <a:noFill/>
          </a:ln>
        </p:spPr>
      </p:pic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211280" y="1484280"/>
            <a:ext cx="4475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magnetic field in a circuit is measured as </a:t>
            </a: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magnetic flux </a:t>
            </a:r>
            <a:r>
              <a:rPr b="0" lang="el-GR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= Bx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B = mag field str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 = area perpendicular to fiel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unit for flux is the </a:t>
            </a: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eber W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Magnetic Flux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 useful analogy is using a net to catch whitebait in a stream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f you don’t hold the net straight up and down, you don’t catch many whitebait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3"/>
          <a:stretch/>
        </p:blipFill>
        <p:spPr>
          <a:xfrm>
            <a:off x="4932360" y="692280"/>
            <a:ext cx="35672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Faraday’s Law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ccording to Faraday’s Law, V=Bv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area of the loop in the field is zero…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1908000" y="2923920"/>
            <a:ext cx="5761080" cy="3389040"/>
            <a:chOff x="1908000" y="2923920"/>
            <a:chExt cx="5761080" cy="3389040"/>
          </a:xfrm>
        </p:grpSpPr>
        <p:grpSp>
          <p:nvGrpSpPr>
            <p:cNvPr id="871" name=""/>
            <p:cNvGrpSpPr/>
            <p:nvPr/>
          </p:nvGrpSpPr>
          <p:grpSpPr>
            <a:xfrm>
              <a:off x="4686120" y="2923920"/>
              <a:ext cx="2355840" cy="3389040"/>
              <a:chOff x="4686120" y="2923920"/>
              <a:chExt cx="2355840" cy="3389040"/>
            </a:xfrm>
          </p:grpSpPr>
          <p:grpSp>
            <p:nvGrpSpPr>
              <p:cNvPr id="872" name=""/>
              <p:cNvGrpSpPr/>
              <p:nvPr/>
            </p:nvGrpSpPr>
            <p:grpSpPr>
              <a:xfrm>
                <a:off x="5350320" y="2923920"/>
                <a:ext cx="362160" cy="3389040"/>
                <a:chOff x="5350320" y="2923920"/>
                <a:chExt cx="362160" cy="3389040"/>
              </a:xfrm>
            </p:grpSpPr>
            <p:grpSp>
              <p:nvGrpSpPr>
                <p:cNvPr id="873" name=""/>
                <p:cNvGrpSpPr/>
                <p:nvPr/>
              </p:nvGrpSpPr>
              <p:grpSpPr>
                <a:xfrm>
                  <a:off x="5350320" y="2923920"/>
                  <a:ext cx="362160" cy="286560"/>
                  <a:chOff x="5350320" y="2923920"/>
                  <a:chExt cx="362160" cy="28656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5350320" y="2924280"/>
                    <a:ext cx="36216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flipV="1">
                    <a:off x="5350320" y="2923920"/>
                    <a:ext cx="36216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6" name=""/>
                <p:cNvGrpSpPr/>
                <p:nvPr/>
              </p:nvGrpSpPr>
              <p:grpSpPr>
                <a:xfrm>
                  <a:off x="5350320" y="3544200"/>
                  <a:ext cx="362160" cy="285840"/>
                  <a:chOff x="5350320" y="3544200"/>
                  <a:chExt cx="362160" cy="285840"/>
                </a:xfrm>
              </p:grpSpPr>
              <p:sp>
                <p:nvSpPr>
                  <p:cNvPr id="877" name=""/>
                  <p:cNvSpPr/>
                  <p:nvPr/>
                </p:nvSpPr>
                <p:spPr>
                  <a:xfrm>
                    <a:off x="5350320" y="354420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flipV="1">
                    <a:off x="5350320" y="354420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9" name=""/>
                <p:cNvGrpSpPr/>
                <p:nvPr/>
              </p:nvGrpSpPr>
              <p:grpSpPr>
                <a:xfrm>
                  <a:off x="5350320" y="4785120"/>
                  <a:ext cx="362160" cy="285840"/>
                  <a:chOff x="5350320" y="4785120"/>
                  <a:chExt cx="362160" cy="285840"/>
                </a:xfrm>
              </p:grpSpPr>
              <p:sp>
                <p:nvSpPr>
                  <p:cNvPr id="880" name=""/>
                  <p:cNvSpPr/>
                  <p:nvPr/>
                </p:nvSpPr>
                <p:spPr>
                  <a:xfrm>
                    <a:off x="5350320" y="478512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 flipV="1">
                    <a:off x="5350320" y="478512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2" name=""/>
                <p:cNvGrpSpPr/>
                <p:nvPr/>
              </p:nvGrpSpPr>
              <p:grpSpPr>
                <a:xfrm>
                  <a:off x="5350320" y="4165200"/>
                  <a:ext cx="362160" cy="285840"/>
                  <a:chOff x="5350320" y="4165200"/>
                  <a:chExt cx="362160" cy="285840"/>
                </a:xfrm>
              </p:grpSpPr>
              <p:sp>
                <p:nvSpPr>
                  <p:cNvPr id="883" name=""/>
                  <p:cNvSpPr/>
                  <p:nvPr/>
                </p:nvSpPr>
                <p:spPr>
                  <a:xfrm>
                    <a:off x="5350320" y="416520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 flipV="1">
                    <a:off x="5350320" y="416520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5" name=""/>
                <p:cNvGrpSpPr/>
                <p:nvPr/>
              </p:nvGrpSpPr>
              <p:grpSpPr>
                <a:xfrm>
                  <a:off x="5350320" y="5406120"/>
                  <a:ext cx="362160" cy="285840"/>
                  <a:chOff x="5350320" y="5406120"/>
                  <a:chExt cx="362160" cy="285840"/>
                </a:xfrm>
              </p:grpSpPr>
              <p:sp>
                <p:nvSpPr>
                  <p:cNvPr id="886" name=""/>
                  <p:cNvSpPr/>
                  <p:nvPr/>
                </p:nvSpPr>
                <p:spPr>
                  <a:xfrm>
                    <a:off x="5350320" y="540612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 flipV="1">
                    <a:off x="5350320" y="540612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8" name=""/>
                <p:cNvGrpSpPr/>
                <p:nvPr/>
              </p:nvGrpSpPr>
              <p:grpSpPr>
                <a:xfrm>
                  <a:off x="5350320" y="6026400"/>
                  <a:ext cx="362160" cy="286560"/>
                  <a:chOff x="5350320" y="6026400"/>
                  <a:chExt cx="362160" cy="286560"/>
                </a:xfrm>
              </p:grpSpPr>
              <p:sp>
                <p:nvSpPr>
                  <p:cNvPr id="889" name=""/>
                  <p:cNvSpPr/>
                  <p:nvPr/>
                </p:nvSpPr>
                <p:spPr>
                  <a:xfrm>
                    <a:off x="5350320" y="6026760"/>
                    <a:ext cx="36216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 flipV="1">
                    <a:off x="5350320" y="6026400"/>
                    <a:ext cx="36216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1" name=""/>
              <p:cNvGrpSpPr/>
              <p:nvPr/>
            </p:nvGrpSpPr>
            <p:grpSpPr>
              <a:xfrm>
                <a:off x="6015240" y="2923920"/>
                <a:ext cx="361800" cy="3389040"/>
                <a:chOff x="6015240" y="2923920"/>
                <a:chExt cx="361800" cy="3389040"/>
              </a:xfrm>
            </p:grpSpPr>
            <p:grpSp>
              <p:nvGrpSpPr>
                <p:cNvPr id="892" name=""/>
                <p:cNvGrpSpPr/>
                <p:nvPr/>
              </p:nvGrpSpPr>
              <p:grpSpPr>
                <a:xfrm>
                  <a:off x="6015240" y="2923920"/>
                  <a:ext cx="361800" cy="286560"/>
                  <a:chOff x="6015240" y="2923920"/>
                  <a:chExt cx="361800" cy="286560"/>
                </a:xfrm>
              </p:grpSpPr>
              <p:sp>
                <p:nvSpPr>
                  <p:cNvPr id="893" name=""/>
                  <p:cNvSpPr/>
                  <p:nvPr/>
                </p:nvSpPr>
                <p:spPr>
                  <a:xfrm>
                    <a:off x="6015240" y="2924280"/>
                    <a:ext cx="36180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 flipV="1">
                    <a:off x="6015240" y="2923920"/>
                    <a:ext cx="36180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5" name=""/>
                <p:cNvGrpSpPr/>
                <p:nvPr/>
              </p:nvGrpSpPr>
              <p:grpSpPr>
                <a:xfrm>
                  <a:off x="6015240" y="3544200"/>
                  <a:ext cx="361800" cy="285840"/>
                  <a:chOff x="6015240" y="3544200"/>
                  <a:chExt cx="361800" cy="28584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>
                    <a:off x="6015240" y="354420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 flipV="1">
                    <a:off x="6015240" y="354420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8" name=""/>
                <p:cNvGrpSpPr/>
                <p:nvPr/>
              </p:nvGrpSpPr>
              <p:grpSpPr>
                <a:xfrm>
                  <a:off x="6015240" y="4785120"/>
                  <a:ext cx="361800" cy="285840"/>
                  <a:chOff x="6015240" y="4785120"/>
                  <a:chExt cx="361800" cy="28584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>
                    <a:off x="6015240" y="478512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 flipV="1">
                    <a:off x="6015240" y="478512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1" name=""/>
                <p:cNvGrpSpPr/>
                <p:nvPr/>
              </p:nvGrpSpPr>
              <p:grpSpPr>
                <a:xfrm>
                  <a:off x="6015240" y="4165200"/>
                  <a:ext cx="361800" cy="285840"/>
                  <a:chOff x="6015240" y="4165200"/>
                  <a:chExt cx="361800" cy="28584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>
                    <a:off x="6015240" y="416520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flipV="1">
                    <a:off x="6015240" y="416520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4" name=""/>
                <p:cNvGrpSpPr/>
                <p:nvPr/>
              </p:nvGrpSpPr>
              <p:grpSpPr>
                <a:xfrm>
                  <a:off x="6015240" y="5406120"/>
                  <a:ext cx="361800" cy="285840"/>
                  <a:chOff x="6015240" y="5406120"/>
                  <a:chExt cx="361800" cy="285840"/>
                </a:xfrm>
              </p:grpSpPr>
              <p:sp>
                <p:nvSpPr>
                  <p:cNvPr id="905" name=""/>
                  <p:cNvSpPr/>
                  <p:nvPr/>
                </p:nvSpPr>
                <p:spPr>
                  <a:xfrm>
                    <a:off x="6015240" y="540612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 flipV="1">
                    <a:off x="6015240" y="540612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7" name=""/>
                <p:cNvGrpSpPr/>
                <p:nvPr/>
              </p:nvGrpSpPr>
              <p:grpSpPr>
                <a:xfrm>
                  <a:off x="6015240" y="6026400"/>
                  <a:ext cx="361800" cy="286560"/>
                  <a:chOff x="6015240" y="6026400"/>
                  <a:chExt cx="361800" cy="286560"/>
                </a:xfrm>
              </p:grpSpPr>
              <p:sp>
                <p:nvSpPr>
                  <p:cNvPr id="908" name=""/>
                  <p:cNvSpPr/>
                  <p:nvPr/>
                </p:nvSpPr>
                <p:spPr>
                  <a:xfrm>
                    <a:off x="6015240" y="6026760"/>
                    <a:ext cx="36180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flipV="1">
                    <a:off x="6015240" y="6026400"/>
                    <a:ext cx="36180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0" name=""/>
              <p:cNvGrpSpPr/>
              <p:nvPr/>
            </p:nvGrpSpPr>
            <p:grpSpPr>
              <a:xfrm>
                <a:off x="6679800" y="2923920"/>
                <a:ext cx="362160" cy="3389040"/>
                <a:chOff x="6679800" y="2923920"/>
                <a:chExt cx="362160" cy="3389040"/>
              </a:xfrm>
            </p:grpSpPr>
            <p:grpSp>
              <p:nvGrpSpPr>
                <p:cNvPr id="911" name=""/>
                <p:cNvGrpSpPr/>
                <p:nvPr/>
              </p:nvGrpSpPr>
              <p:grpSpPr>
                <a:xfrm>
                  <a:off x="6679800" y="2923920"/>
                  <a:ext cx="362160" cy="286560"/>
                  <a:chOff x="6679800" y="2923920"/>
                  <a:chExt cx="362160" cy="286560"/>
                </a:xfrm>
              </p:grpSpPr>
              <p:sp>
                <p:nvSpPr>
                  <p:cNvPr id="912" name=""/>
                  <p:cNvSpPr/>
                  <p:nvPr/>
                </p:nvSpPr>
                <p:spPr>
                  <a:xfrm>
                    <a:off x="6679800" y="2924280"/>
                    <a:ext cx="36216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flipV="1">
                    <a:off x="6679800" y="2923920"/>
                    <a:ext cx="36216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4" name=""/>
                <p:cNvGrpSpPr/>
                <p:nvPr/>
              </p:nvGrpSpPr>
              <p:grpSpPr>
                <a:xfrm>
                  <a:off x="6679800" y="3544200"/>
                  <a:ext cx="362160" cy="285840"/>
                  <a:chOff x="6679800" y="3544200"/>
                  <a:chExt cx="362160" cy="285840"/>
                </a:xfrm>
              </p:grpSpPr>
              <p:sp>
                <p:nvSpPr>
                  <p:cNvPr id="915" name=""/>
                  <p:cNvSpPr/>
                  <p:nvPr/>
                </p:nvSpPr>
                <p:spPr>
                  <a:xfrm>
                    <a:off x="6679800" y="354420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 flipV="1">
                    <a:off x="6679800" y="354420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7" name=""/>
                <p:cNvGrpSpPr/>
                <p:nvPr/>
              </p:nvGrpSpPr>
              <p:grpSpPr>
                <a:xfrm>
                  <a:off x="6679800" y="4785120"/>
                  <a:ext cx="362160" cy="285840"/>
                  <a:chOff x="6679800" y="4785120"/>
                  <a:chExt cx="362160" cy="285840"/>
                </a:xfrm>
              </p:grpSpPr>
              <p:sp>
                <p:nvSpPr>
                  <p:cNvPr id="918" name=""/>
                  <p:cNvSpPr/>
                  <p:nvPr/>
                </p:nvSpPr>
                <p:spPr>
                  <a:xfrm>
                    <a:off x="6679800" y="478512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 flipV="1">
                    <a:off x="6679800" y="478512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0" name=""/>
                <p:cNvGrpSpPr/>
                <p:nvPr/>
              </p:nvGrpSpPr>
              <p:grpSpPr>
                <a:xfrm>
                  <a:off x="6679800" y="4165200"/>
                  <a:ext cx="362160" cy="285840"/>
                  <a:chOff x="6679800" y="4165200"/>
                  <a:chExt cx="362160" cy="28584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>
                    <a:off x="6679800" y="416520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V="1">
                    <a:off x="6679800" y="416520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3" name=""/>
                <p:cNvGrpSpPr/>
                <p:nvPr/>
              </p:nvGrpSpPr>
              <p:grpSpPr>
                <a:xfrm>
                  <a:off x="6679800" y="5406120"/>
                  <a:ext cx="362160" cy="285840"/>
                  <a:chOff x="6679800" y="5406120"/>
                  <a:chExt cx="362160" cy="285840"/>
                </a:xfrm>
              </p:grpSpPr>
              <p:sp>
                <p:nvSpPr>
                  <p:cNvPr id="924" name=""/>
                  <p:cNvSpPr/>
                  <p:nvPr/>
                </p:nvSpPr>
                <p:spPr>
                  <a:xfrm>
                    <a:off x="6679800" y="540612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flipV="1">
                    <a:off x="6679800" y="540612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"/>
                <p:cNvGrpSpPr/>
                <p:nvPr/>
              </p:nvGrpSpPr>
              <p:grpSpPr>
                <a:xfrm>
                  <a:off x="6679800" y="6026400"/>
                  <a:ext cx="362160" cy="286560"/>
                  <a:chOff x="6679800" y="6026400"/>
                  <a:chExt cx="362160" cy="286560"/>
                </a:xfrm>
              </p:grpSpPr>
              <p:sp>
                <p:nvSpPr>
                  <p:cNvPr id="927" name=""/>
                  <p:cNvSpPr/>
                  <p:nvPr/>
                </p:nvSpPr>
                <p:spPr>
                  <a:xfrm>
                    <a:off x="6679800" y="6026760"/>
                    <a:ext cx="36216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flipV="1">
                    <a:off x="6679800" y="6026400"/>
                    <a:ext cx="36216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9" name=""/>
              <p:cNvGrpSpPr/>
              <p:nvPr/>
            </p:nvGrpSpPr>
            <p:grpSpPr>
              <a:xfrm>
                <a:off x="4686120" y="2923920"/>
                <a:ext cx="361800" cy="3389040"/>
                <a:chOff x="4686120" y="2923920"/>
                <a:chExt cx="361800" cy="3389040"/>
              </a:xfrm>
            </p:grpSpPr>
            <p:grpSp>
              <p:nvGrpSpPr>
                <p:cNvPr id="930" name=""/>
                <p:cNvGrpSpPr/>
                <p:nvPr/>
              </p:nvGrpSpPr>
              <p:grpSpPr>
                <a:xfrm>
                  <a:off x="4686120" y="2923920"/>
                  <a:ext cx="361800" cy="286560"/>
                  <a:chOff x="4686120" y="2923920"/>
                  <a:chExt cx="361800" cy="286560"/>
                </a:xfrm>
              </p:grpSpPr>
              <p:sp>
                <p:nvSpPr>
                  <p:cNvPr id="931" name=""/>
                  <p:cNvSpPr/>
                  <p:nvPr/>
                </p:nvSpPr>
                <p:spPr>
                  <a:xfrm>
                    <a:off x="4686120" y="2924280"/>
                    <a:ext cx="36180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V="1">
                    <a:off x="4686120" y="2923920"/>
                    <a:ext cx="36180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3" name=""/>
                <p:cNvGrpSpPr/>
                <p:nvPr/>
              </p:nvGrpSpPr>
              <p:grpSpPr>
                <a:xfrm>
                  <a:off x="4686120" y="3544200"/>
                  <a:ext cx="361800" cy="285840"/>
                  <a:chOff x="4686120" y="3544200"/>
                  <a:chExt cx="361800" cy="285840"/>
                </a:xfrm>
              </p:grpSpPr>
              <p:sp>
                <p:nvSpPr>
                  <p:cNvPr id="934" name=""/>
                  <p:cNvSpPr/>
                  <p:nvPr/>
                </p:nvSpPr>
                <p:spPr>
                  <a:xfrm>
                    <a:off x="4686120" y="354420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 flipV="1">
                    <a:off x="4686120" y="354420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4686120" y="4785120"/>
                  <a:ext cx="361800" cy="285840"/>
                  <a:chOff x="4686120" y="4785120"/>
                  <a:chExt cx="361800" cy="28584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4686120" y="478512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 flipV="1">
                    <a:off x="4686120" y="478512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9" name=""/>
                <p:cNvGrpSpPr/>
                <p:nvPr/>
              </p:nvGrpSpPr>
              <p:grpSpPr>
                <a:xfrm>
                  <a:off x="4686120" y="4165200"/>
                  <a:ext cx="361800" cy="285840"/>
                  <a:chOff x="4686120" y="4165200"/>
                  <a:chExt cx="361800" cy="285840"/>
                </a:xfrm>
              </p:grpSpPr>
              <p:sp>
                <p:nvSpPr>
                  <p:cNvPr id="940" name=""/>
                  <p:cNvSpPr/>
                  <p:nvPr/>
                </p:nvSpPr>
                <p:spPr>
                  <a:xfrm>
                    <a:off x="4686120" y="416520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 flipV="1">
                    <a:off x="4686120" y="416520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2" name=""/>
                <p:cNvGrpSpPr/>
                <p:nvPr/>
              </p:nvGrpSpPr>
              <p:grpSpPr>
                <a:xfrm>
                  <a:off x="4686120" y="5406120"/>
                  <a:ext cx="361800" cy="285840"/>
                  <a:chOff x="4686120" y="5406120"/>
                  <a:chExt cx="361800" cy="285840"/>
                </a:xfrm>
              </p:grpSpPr>
              <p:sp>
                <p:nvSpPr>
                  <p:cNvPr id="943" name=""/>
                  <p:cNvSpPr/>
                  <p:nvPr/>
                </p:nvSpPr>
                <p:spPr>
                  <a:xfrm>
                    <a:off x="4686120" y="540612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flipV="1">
                    <a:off x="4686120" y="540612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5" name=""/>
                <p:cNvGrpSpPr/>
                <p:nvPr/>
              </p:nvGrpSpPr>
              <p:grpSpPr>
                <a:xfrm>
                  <a:off x="4686120" y="6026400"/>
                  <a:ext cx="361800" cy="286560"/>
                  <a:chOff x="4686120" y="6026400"/>
                  <a:chExt cx="361800" cy="286560"/>
                </a:xfrm>
              </p:grpSpPr>
              <p:sp>
                <p:nvSpPr>
                  <p:cNvPr id="946" name=""/>
                  <p:cNvSpPr/>
                  <p:nvPr/>
                </p:nvSpPr>
                <p:spPr>
                  <a:xfrm>
                    <a:off x="4686120" y="6026760"/>
                    <a:ext cx="36180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 flipV="1">
                    <a:off x="4686120" y="6026400"/>
                    <a:ext cx="36180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48" name=""/>
            <p:cNvSpPr/>
            <p:nvPr/>
          </p:nvSpPr>
          <p:spPr>
            <a:xfrm>
              <a:off x="1908000" y="3573360"/>
              <a:ext cx="2767320" cy="2486160"/>
            </a:xfrm>
            <a:prstGeom prst="roundRect">
              <a:avLst>
                <a:gd name="adj" fmla="val 16667"/>
              </a:avLst>
            </a:prstGeom>
            <a:noFill/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716360" y="4653000"/>
              <a:ext cx="1139760" cy="137880"/>
            </a:xfrm>
            <a:prstGeom prst="rightArrow">
              <a:avLst>
                <a:gd name="adj1" fmla="val 50000"/>
                <a:gd name="adj2" fmla="val 206658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916360" y="3645000"/>
              <a:ext cx="0" cy="23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059280" y="458136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869080" y="4437000"/>
              <a:ext cx="18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ffffff"/>
                  </a:solidFill>
                  <a:latin typeface="Arial"/>
                </a:rPr>
                <a:t>Speed 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Faraday’s Law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ome time t later, A has chang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A =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(vt x 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Φ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 = B x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Φ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 = B x v x L x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But V=Bv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So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Φ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 = V x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4500720" y="2204640"/>
            <a:ext cx="4317840" cy="3389400"/>
            <a:chOff x="4500720" y="2204640"/>
            <a:chExt cx="4317840" cy="3389400"/>
          </a:xfrm>
        </p:grpSpPr>
        <p:grpSp>
          <p:nvGrpSpPr>
            <p:cNvPr id="956" name=""/>
            <p:cNvGrpSpPr/>
            <p:nvPr/>
          </p:nvGrpSpPr>
          <p:grpSpPr>
            <a:xfrm>
              <a:off x="4500720" y="2204640"/>
              <a:ext cx="4196520" cy="3389400"/>
              <a:chOff x="4500720" y="2204640"/>
              <a:chExt cx="4196520" cy="3389400"/>
            </a:xfrm>
          </p:grpSpPr>
          <p:grpSp>
            <p:nvGrpSpPr>
              <p:cNvPr id="957" name=""/>
              <p:cNvGrpSpPr/>
              <p:nvPr/>
            </p:nvGrpSpPr>
            <p:grpSpPr>
              <a:xfrm>
                <a:off x="6341760" y="2204640"/>
                <a:ext cx="2355480" cy="3389400"/>
                <a:chOff x="6341760" y="2204640"/>
                <a:chExt cx="2355480" cy="3389400"/>
              </a:xfrm>
            </p:grpSpPr>
            <p:grpSp>
              <p:nvGrpSpPr>
                <p:cNvPr id="958" name=""/>
                <p:cNvGrpSpPr/>
                <p:nvPr/>
              </p:nvGrpSpPr>
              <p:grpSpPr>
                <a:xfrm>
                  <a:off x="7005960" y="2204640"/>
                  <a:ext cx="362160" cy="3389400"/>
                  <a:chOff x="7005960" y="2204640"/>
                  <a:chExt cx="362160" cy="3389400"/>
                </a:xfrm>
              </p:grpSpPr>
              <p:grpSp>
                <p:nvGrpSpPr>
                  <p:cNvPr id="959" name=""/>
                  <p:cNvGrpSpPr/>
                  <p:nvPr/>
                </p:nvGrpSpPr>
                <p:grpSpPr>
                  <a:xfrm>
                    <a:off x="7005960" y="2204640"/>
                    <a:ext cx="362160" cy="286560"/>
                    <a:chOff x="7005960" y="2204640"/>
                    <a:chExt cx="362160" cy="286560"/>
                  </a:xfrm>
                </p:grpSpPr>
                <p:sp>
                  <p:nvSpPr>
                    <p:cNvPr id="960" name=""/>
                    <p:cNvSpPr/>
                    <p:nvPr/>
                  </p:nvSpPr>
                  <p:spPr>
                    <a:xfrm>
                      <a:off x="7005960" y="220500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 flipV="1">
                      <a:off x="7005960" y="220464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2" name=""/>
                  <p:cNvGrpSpPr/>
                  <p:nvPr/>
                </p:nvGrpSpPr>
                <p:grpSpPr>
                  <a:xfrm>
                    <a:off x="7005960" y="2824920"/>
                    <a:ext cx="362160" cy="285840"/>
                    <a:chOff x="7005960" y="2824920"/>
                    <a:chExt cx="362160" cy="285840"/>
                  </a:xfrm>
                </p:grpSpPr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7005960" y="282492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 flipV="1">
                      <a:off x="7005960" y="282492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5" name=""/>
                  <p:cNvGrpSpPr/>
                  <p:nvPr/>
                </p:nvGrpSpPr>
                <p:grpSpPr>
                  <a:xfrm>
                    <a:off x="7005960" y="4065840"/>
                    <a:ext cx="362160" cy="285840"/>
                    <a:chOff x="7005960" y="4065840"/>
                    <a:chExt cx="362160" cy="285840"/>
                  </a:xfrm>
                </p:grpSpPr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7005960" y="406584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 flipV="1">
                      <a:off x="7005960" y="406584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8" name=""/>
                  <p:cNvGrpSpPr/>
                  <p:nvPr/>
                </p:nvGrpSpPr>
                <p:grpSpPr>
                  <a:xfrm>
                    <a:off x="7005960" y="3445920"/>
                    <a:ext cx="362160" cy="285840"/>
                    <a:chOff x="7005960" y="3445920"/>
                    <a:chExt cx="362160" cy="285840"/>
                  </a:xfrm>
                </p:grpSpPr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7005960" y="344592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 flipV="1">
                      <a:off x="7005960" y="344592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7005960" y="4687200"/>
                    <a:ext cx="362160" cy="285840"/>
                    <a:chOff x="7005960" y="4687200"/>
                    <a:chExt cx="362160" cy="285840"/>
                  </a:xfrm>
                </p:grpSpPr>
                <p:sp>
                  <p:nvSpPr>
                    <p:cNvPr id="972" name=""/>
                    <p:cNvSpPr/>
                    <p:nvPr/>
                  </p:nvSpPr>
                  <p:spPr>
                    <a:xfrm>
                      <a:off x="7005960" y="468720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 flipV="1">
                      <a:off x="7005960" y="468720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4" name=""/>
                  <p:cNvGrpSpPr/>
                  <p:nvPr/>
                </p:nvGrpSpPr>
                <p:grpSpPr>
                  <a:xfrm>
                    <a:off x="7005960" y="5307480"/>
                    <a:ext cx="362160" cy="286560"/>
                    <a:chOff x="7005960" y="5307480"/>
                    <a:chExt cx="362160" cy="286560"/>
                  </a:xfrm>
                </p:grpSpPr>
                <p:sp>
                  <p:nvSpPr>
                    <p:cNvPr id="975" name=""/>
                    <p:cNvSpPr/>
                    <p:nvPr/>
                  </p:nvSpPr>
                  <p:spPr>
                    <a:xfrm>
                      <a:off x="7005960" y="530784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6" name=""/>
                    <p:cNvSpPr/>
                    <p:nvPr/>
                  </p:nvSpPr>
                  <p:spPr>
                    <a:xfrm flipV="1">
                      <a:off x="7005960" y="530748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77" name=""/>
                <p:cNvGrpSpPr/>
                <p:nvPr/>
              </p:nvGrpSpPr>
              <p:grpSpPr>
                <a:xfrm>
                  <a:off x="7670520" y="2204640"/>
                  <a:ext cx="361800" cy="3389400"/>
                  <a:chOff x="7670520" y="2204640"/>
                  <a:chExt cx="361800" cy="3389400"/>
                </a:xfrm>
              </p:grpSpPr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7670520" y="2204640"/>
                    <a:ext cx="361800" cy="286560"/>
                    <a:chOff x="7670520" y="2204640"/>
                    <a:chExt cx="361800" cy="28656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7670520" y="220500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 flipV="1">
                      <a:off x="7670520" y="220464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7670520" y="2824920"/>
                    <a:ext cx="361800" cy="285840"/>
                    <a:chOff x="7670520" y="2824920"/>
                    <a:chExt cx="361800" cy="28584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7670520" y="282492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 flipV="1">
                      <a:off x="7670520" y="282492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4" name=""/>
                  <p:cNvGrpSpPr/>
                  <p:nvPr/>
                </p:nvGrpSpPr>
                <p:grpSpPr>
                  <a:xfrm>
                    <a:off x="7670520" y="4065840"/>
                    <a:ext cx="361800" cy="285840"/>
                    <a:chOff x="7670520" y="4065840"/>
                    <a:chExt cx="361800" cy="285840"/>
                  </a:xfrm>
                </p:grpSpPr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7670520" y="406584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 flipV="1">
                      <a:off x="7670520" y="406584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7" name=""/>
                  <p:cNvGrpSpPr/>
                  <p:nvPr/>
                </p:nvGrpSpPr>
                <p:grpSpPr>
                  <a:xfrm>
                    <a:off x="7670520" y="3445920"/>
                    <a:ext cx="361800" cy="285840"/>
                    <a:chOff x="7670520" y="3445920"/>
                    <a:chExt cx="361800" cy="285840"/>
                  </a:xfrm>
                </p:grpSpPr>
                <p:sp>
                  <p:nvSpPr>
                    <p:cNvPr id="988" name=""/>
                    <p:cNvSpPr/>
                    <p:nvPr/>
                  </p:nvSpPr>
                  <p:spPr>
                    <a:xfrm>
                      <a:off x="7670520" y="344592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 flipV="1">
                      <a:off x="7670520" y="344592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0" name=""/>
                  <p:cNvGrpSpPr/>
                  <p:nvPr/>
                </p:nvGrpSpPr>
                <p:grpSpPr>
                  <a:xfrm>
                    <a:off x="7670520" y="4687200"/>
                    <a:ext cx="361800" cy="285840"/>
                    <a:chOff x="7670520" y="4687200"/>
                    <a:chExt cx="361800" cy="285840"/>
                  </a:xfrm>
                </p:grpSpPr>
                <p:sp>
                  <p:nvSpPr>
                    <p:cNvPr id="991" name=""/>
                    <p:cNvSpPr/>
                    <p:nvPr/>
                  </p:nvSpPr>
                  <p:spPr>
                    <a:xfrm>
                      <a:off x="7670520" y="468720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 flipV="1">
                      <a:off x="7670520" y="468720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3" name=""/>
                  <p:cNvGrpSpPr/>
                  <p:nvPr/>
                </p:nvGrpSpPr>
                <p:grpSpPr>
                  <a:xfrm>
                    <a:off x="7670520" y="5307480"/>
                    <a:ext cx="361800" cy="286560"/>
                    <a:chOff x="7670520" y="5307480"/>
                    <a:chExt cx="361800" cy="286560"/>
                  </a:xfrm>
                </p:grpSpPr>
                <p:sp>
                  <p:nvSpPr>
                    <p:cNvPr id="994" name=""/>
                    <p:cNvSpPr/>
                    <p:nvPr/>
                  </p:nvSpPr>
                  <p:spPr>
                    <a:xfrm>
                      <a:off x="7670520" y="530784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 flipV="1">
                      <a:off x="7670520" y="530748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96" name=""/>
                <p:cNvGrpSpPr/>
                <p:nvPr/>
              </p:nvGrpSpPr>
              <p:grpSpPr>
                <a:xfrm>
                  <a:off x="8335080" y="2204640"/>
                  <a:ext cx="362160" cy="3389400"/>
                  <a:chOff x="8335080" y="2204640"/>
                  <a:chExt cx="362160" cy="3389400"/>
                </a:xfrm>
              </p:grpSpPr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8335080" y="2204640"/>
                    <a:ext cx="362160" cy="286560"/>
                    <a:chOff x="8335080" y="2204640"/>
                    <a:chExt cx="362160" cy="286560"/>
                  </a:xfrm>
                </p:grpSpPr>
                <p:sp>
                  <p:nvSpPr>
                    <p:cNvPr id="998" name=""/>
                    <p:cNvSpPr/>
                    <p:nvPr/>
                  </p:nvSpPr>
                  <p:spPr>
                    <a:xfrm>
                      <a:off x="8335080" y="220500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 flipV="1">
                      <a:off x="8335080" y="220464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0" name=""/>
                  <p:cNvGrpSpPr/>
                  <p:nvPr/>
                </p:nvGrpSpPr>
                <p:grpSpPr>
                  <a:xfrm>
                    <a:off x="8335080" y="2824920"/>
                    <a:ext cx="362160" cy="285840"/>
                    <a:chOff x="8335080" y="2824920"/>
                    <a:chExt cx="362160" cy="285840"/>
                  </a:xfrm>
                </p:grpSpPr>
                <p:sp>
                  <p:nvSpPr>
                    <p:cNvPr id="1001" name=""/>
                    <p:cNvSpPr/>
                    <p:nvPr/>
                  </p:nvSpPr>
                  <p:spPr>
                    <a:xfrm>
                      <a:off x="8335080" y="282492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 flipV="1">
                      <a:off x="8335080" y="282492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3" name=""/>
                  <p:cNvGrpSpPr/>
                  <p:nvPr/>
                </p:nvGrpSpPr>
                <p:grpSpPr>
                  <a:xfrm>
                    <a:off x="8335080" y="4065840"/>
                    <a:ext cx="362160" cy="285840"/>
                    <a:chOff x="8335080" y="4065840"/>
                    <a:chExt cx="362160" cy="285840"/>
                  </a:xfrm>
                </p:grpSpPr>
                <p:sp>
                  <p:nvSpPr>
                    <p:cNvPr id="1004" name=""/>
                    <p:cNvSpPr/>
                    <p:nvPr/>
                  </p:nvSpPr>
                  <p:spPr>
                    <a:xfrm>
                      <a:off x="8335080" y="406584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 flipV="1">
                      <a:off x="8335080" y="406584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6" name=""/>
                  <p:cNvGrpSpPr/>
                  <p:nvPr/>
                </p:nvGrpSpPr>
                <p:grpSpPr>
                  <a:xfrm>
                    <a:off x="8335080" y="3445920"/>
                    <a:ext cx="362160" cy="285840"/>
                    <a:chOff x="8335080" y="3445920"/>
                    <a:chExt cx="362160" cy="285840"/>
                  </a:xfrm>
                </p:grpSpPr>
                <p:sp>
                  <p:nvSpPr>
                    <p:cNvPr id="1007" name=""/>
                    <p:cNvSpPr/>
                    <p:nvPr/>
                  </p:nvSpPr>
                  <p:spPr>
                    <a:xfrm>
                      <a:off x="8335080" y="344592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 flipV="1">
                      <a:off x="8335080" y="344592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9" name=""/>
                  <p:cNvGrpSpPr/>
                  <p:nvPr/>
                </p:nvGrpSpPr>
                <p:grpSpPr>
                  <a:xfrm>
                    <a:off x="8335080" y="4687200"/>
                    <a:ext cx="362160" cy="285840"/>
                    <a:chOff x="8335080" y="4687200"/>
                    <a:chExt cx="362160" cy="285840"/>
                  </a:xfrm>
                </p:grpSpPr>
                <p:sp>
                  <p:nvSpPr>
                    <p:cNvPr id="1010" name=""/>
                    <p:cNvSpPr/>
                    <p:nvPr/>
                  </p:nvSpPr>
                  <p:spPr>
                    <a:xfrm>
                      <a:off x="8335080" y="468720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 flipV="1">
                      <a:off x="8335080" y="468720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2" name=""/>
                  <p:cNvGrpSpPr/>
                  <p:nvPr/>
                </p:nvGrpSpPr>
                <p:grpSpPr>
                  <a:xfrm>
                    <a:off x="8335080" y="5307480"/>
                    <a:ext cx="362160" cy="286560"/>
                    <a:chOff x="8335080" y="5307480"/>
                    <a:chExt cx="362160" cy="286560"/>
                  </a:xfrm>
                </p:grpSpPr>
                <p:sp>
                  <p:nvSpPr>
                    <p:cNvPr id="1013" name=""/>
                    <p:cNvSpPr/>
                    <p:nvPr/>
                  </p:nvSpPr>
                  <p:spPr>
                    <a:xfrm>
                      <a:off x="8335080" y="530784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 flipV="1">
                      <a:off x="8335080" y="530748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6341760" y="2204640"/>
                  <a:ext cx="361800" cy="3389400"/>
                  <a:chOff x="6341760" y="2204640"/>
                  <a:chExt cx="361800" cy="3389400"/>
                </a:xfrm>
              </p:grpSpPr>
              <p:grpSp>
                <p:nvGrpSpPr>
                  <p:cNvPr id="1016" name=""/>
                  <p:cNvGrpSpPr/>
                  <p:nvPr/>
                </p:nvGrpSpPr>
                <p:grpSpPr>
                  <a:xfrm>
                    <a:off x="6341760" y="2204640"/>
                    <a:ext cx="361800" cy="286560"/>
                    <a:chOff x="6341760" y="2204640"/>
                    <a:chExt cx="361800" cy="286560"/>
                  </a:xfrm>
                </p:grpSpPr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6341760" y="220500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 flipV="1">
                      <a:off x="6341760" y="220464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9" name=""/>
                  <p:cNvGrpSpPr/>
                  <p:nvPr/>
                </p:nvGrpSpPr>
                <p:grpSpPr>
                  <a:xfrm>
                    <a:off x="6341760" y="2824920"/>
                    <a:ext cx="361800" cy="285840"/>
                    <a:chOff x="6341760" y="2824920"/>
                    <a:chExt cx="361800" cy="285840"/>
                  </a:xfrm>
                </p:grpSpPr>
                <p:sp>
                  <p:nvSpPr>
                    <p:cNvPr id="1020" name=""/>
                    <p:cNvSpPr/>
                    <p:nvPr/>
                  </p:nvSpPr>
                  <p:spPr>
                    <a:xfrm>
                      <a:off x="6341760" y="282492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flipV="1">
                      <a:off x="6341760" y="282492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2" name=""/>
                  <p:cNvGrpSpPr/>
                  <p:nvPr/>
                </p:nvGrpSpPr>
                <p:grpSpPr>
                  <a:xfrm>
                    <a:off x="6341760" y="4065840"/>
                    <a:ext cx="361800" cy="285840"/>
                    <a:chOff x="6341760" y="4065840"/>
                    <a:chExt cx="361800" cy="285840"/>
                  </a:xfrm>
                </p:grpSpPr>
                <p:sp>
                  <p:nvSpPr>
                    <p:cNvPr id="1023" name=""/>
                    <p:cNvSpPr/>
                    <p:nvPr/>
                  </p:nvSpPr>
                  <p:spPr>
                    <a:xfrm>
                      <a:off x="6341760" y="406584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 flipV="1">
                      <a:off x="6341760" y="406584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5" name=""/>
                  <p:cNvGrpSpPr/>
                  <p:nvPr/>
                </p:nvGrpSpPr>
                <p:grpSpPr>
                  <a:xfrm>
                    <a:off x="6341760" y="3445920"/>
                    <a:ext cx="361800" cy="285840"/>
                    <a:chOff x="6341760" y="3445920"/>
                    <a:chExt cx="361800" cy="285840"/>
                  </a:xfrm>
                </p:grpSpPr>
                <p:sp>
                  <p:nvSpPr>
                    <p:cNvPr id="1026" name=""/>
                    <p:cNvSpPr/>
                    <p:nvPr/>
                  </p:nvSpPr>
                  <p:spPr>
                    <a:xfrm>
                      <a:off x="6341760" y="344592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 flipV="1">
                      <a:off x="6341760" y="344592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8" name=""/>
                  <p:cNvGrpSpPr/>
                  <p:nvPr/>
                </p:nvGrpSpPr>
                <p:grpSpPr>
                  <a:xfrm>
                    <a:off x="6341760" y="4687200"/>
                    <a:ext cx="361800" cy="285840"/>
                    <a:chOff x="6341760" y="4687200"/>
                    <a:chExt cx="361800" cy="285840"/>
                  </a:xfrm>
                </p:grpSpPr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6341760" y="468720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 flipV="1">
                      <a:off x="6341760" y="468720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1" name=""/>
                  <p:cNvGrpSpPr/>
                  <p:nvPr/>
                </p:nvGrpSpPr>
                <p:grpSpPr>
                  <a:xfrm>
                    <a:off x="6341760" y="5307480"/>
                    <a:ext cx="361800" cy="286560"/>
                    <a:chOff x="6341760" y="5307480"/>
                    <a:chExt cx="361800" cy="286560"/>
                  </a:xfrm>
                </p:grpSpPr>
                <p:sp>
                  <p:nvSpPr>
                    <p:cNvPr id="1032" name=""/>
                    <p:cNvSpPr/>
                    <p:nvPr/>
                  </p:nvSpPr>
                  <p:spPr>
                    <a:xfrm>
                      <a:off x="6341760" y="530784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flipV="1">
                      <a:off x="6341760" y="530748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034" name=""/>
              <p:cNvSpPr/>
              <p:nvPr/>
            </p:nvSpPr>
            <p:spPr>
              <a:xfrm>
                <a:off x="4500720" y="2854440"/>
                <a:ext cx="2766600" cy="2485800"/>
              </a:xfrm>
              <a:prstGeom prst="roundRect">
                <a:avLst>
                  <a:gd name="adj" fmla="val 16667"/>
                </a:avLst>
              </a:prstGeom>
              <a:noFill/>
              <a:ln w="540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308720" y="3935520"/>
                <a:ext cx="1139400" cy="137880"/>
              </a:xfrm>
              <a:prstGeom prst="rightArrow">
                <a:avLst>
                  <a:gd name="adj1" fmla="val 50000"/>
                  <a:gd name="adj2" fmla="val 206593"/>
                </a:avLst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148000" y="2927520"/>
                <a:ext cx="0" cy="237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lg"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714920" y="3862440"/>
                <a:ext cx="72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300720" y="2854440"/>
                <a:ext cx="0" cy="24494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659280" y="3790800"/>
                <a:ext cx="43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0" name=""/>
            <p:cNvSpPr/>
            <p:nvPr/>
          </p:nvSpPr>
          <p:spPr>
            <a:xfrm>
              <a:off x="8459640" y="371628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Faraday’s Law (again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nother way to look at Faraday’s Law is that the induced voltage in a circuit is determined by the </a:t>
            </a: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rate of change of fl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3059280" y="2997360"/>
                <a:ext cx="4038480" cy="25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φ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4" name=""/>
          <p:cNvSpPr/>
          <p:nvPr/>
        </p:nvSpPr>
        <p:spPr>
          <a:xfrm>
            <a:off x="250920" y="4724280"/>
            <a:ext cx="3170160" cy="1873440"/>
          </a:xfrm>
          <a:prstGeom prst="wedgeEllipseCallout">
            <a:avLst>
              <a:gd name="adj1" fmla="val 103930"/>
              <a:gd name="adj2" fmla="val -6322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negative sign is a reminder of Lenz’s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Generato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Rather than sliding a loop through a field, it is easier to spi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is is how a generator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3"/>
          <a:stretch/>
        </p:blipFill>
        <p:spPr>
          <a:xfrm>
            <a:off x="395280" y="2852640"/>
            <a:ext cx="853272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Generato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hen the coil is horizontal, the induced current is maximum, as the coil is cutting across the field lines at right angles as it mo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321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Generato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hen the coil is vertical, the induced current is zero, as the coil is moving parallel to the magnetic field li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2"/>
          <a:stretch/>
        </p:blipFill>
        <p:spPr>
          <a:xfrm>
            <a:off x="3780000" y="1674720"/>
            <a:ext cx="47782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Generato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f we start timing from when the coil is vertical, then at t=0,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= Bx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1222200" y="3110040"/>
            <a:ext cx="6615000" cy="2573280"/>
            <a:chOff x="1222200" y="3110040"/>
            <a:chExt cx="6615000" cy="2573280"/>
          </a:xfrm>
        </p:grpSpPr>
        <p:grpSp>
          <p:nvGrpSpPr>
            <p:cNvPr id="1057" name=""/>
            <p:cNvGrpSpPr/>
            <p:nvPr/>
          </p:nvGrpSpPr>
          <p:grpSpPr>
            <a:xfrm>
              <a:off x="1222200" y="3204000"/>
              <a:ext cx="6615000" cy="2479320"/>
              <a:chOff x="1222200" y="3204000"/>
              <a:chExt cx="6615000" cy="247932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1222200" y="3204000"/>
                <a:ext cx="6615000" cy="2479320"/>
                <a:chOff x="1222200" y="3204000"/>
                <a:chExt cx="6615000" cy="247932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1222200" y="3204000"/>
                  <a:ext cx="6615000" cy="2479320"/>
                  <a:chOff x="1222200" y="3204000"/>
                  <a:chExt cx="6615000" cy="247932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1222200" y="3204000"/>
                    <a:ext cx="1239480" cy="247932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6597720" y="3204000"/>
                    <a:ext cx="1239480" cy="247932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2" name=""/>
                <p:cNvGrpSpPr/>
                <p:nvPr/>
              </p:nvGrpSpPr>
              <p:grpSpPr>
                <a:xfrm>
                  <a:off x="1359000" y="3893760"/>
                  <a:ext cx="6341760" cy="459720"/>
                  <a:chOff x="1359000" y="3893760"/>
                  <a:chExt cx="6341760" cy="459720"/>
                </a:xfrm>
              </p:grpSpPr>
              <p:sp>
                <p:nvSpPr>
                  <p:cNvPr id="1063" name=""/>
                  <p:cNvSpPr/>
                  <p:nvPr/>
                </p:nvSpPr>
                <p:spPr>
                  <a:xfrm>
                    <a:off x="1359000" y="3893760"/>
                    <a:ext cx="965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NZ" sz="2400" spc="-1" strike="noStrike">
                        <a:solidFill>
                          <a:srgbClr val="ffffff"/>
                        </a:solidFill>
                        <a:latin typeface="Arial"/>
                      </a:rPr>
                      <a:t>N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873840" y="3893760"/>
                    <a:ext cx="826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NZ" sz="2400" spc="-1" strike="noStrike">
                        <a:solidFill>
                          <a:srgbClr val="ffffff"/>
                        </a:solidFill>
                        <a:latin typeface="Arial"/>
                      </a:rPr>
                      <a:t>S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5" name=""/>
              <p:cNvGrpSpPr/>
              <p:nvPr/>
            </p:nvGrpSpPr>
            <p:grpSpPr>
              <a:xfrm>
                <a:off x="2462400" y="3340440"/>
                <a:ext cx="4135320" cy="2069280"/>
                <a:chOff x="2462400" y="3340440"/>
                <a:chExt cx="4135320" cy="206928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2462400" y="3340440"/>
                  <a:ext cx="41353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2462400" y="4030200"/>
                  <a:ext cx="41353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2462400" y="4719960"/>
                  <a:ext cx="41353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2462400" y="5409720"/>
                  <a:ext cx="41353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0" name=""/>
            <p:cNvGrpSpPr/>
            <p:nvPr/>
          </p:nvGrpSpPr>
          <p:grpSpPr>
            <a:xfrm>
              <a:off x="3927960" y="3110040"/>
              <a:ext cx="743400" cy="2527920"/>
              <a:chOff x="3927960" y="3110040"/>
              <a:chExt cx="743400" cy="2527920"/>
            </a:xfrm>
          </p:grpSpPr>
          <p:grpSp>
            <p:nvGrpSpPr>
              <p:cNvPr id="1071" name=""/>
              <p:cNvGrpSpPr/>
              <p:nvPr/>
            </p:nvGrpSpPr>
            <p:grpSpPr>
              <a:xfrm>
                <a:off x="3927960" y="3110040"/>
                <a:ext cx="743400" cy="2527920"/>
                <a:chOff x="3927960" y="3110040"/>
                <a:chExt cx="743400" cy="252792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3927960" y="4893840"/>
                  <a:ext cx="743400" cy="74412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3927960" y="3110040"/>
                  <a:ext cx="743400" cy="74412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4" name=""/>
              <p:cNvSpPr/>
              <p:nvPr/>
            </p:nvSpPr>
            <p:spPr>
              <a:xfrm>
                <a:off x="4075920" y="3258000"/>
                <a:ext cx="445320" cy="445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4075560" y="3258000"/>
                <a:ext cx="445320" cy="59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164120" y="5130720"/>
                <a:ext cx="295200" cy="294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278960" y="3844800"/>
                <a:ext cx="0" cy="1019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5576400" y="3261240"/>
              <a:ext cx="8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602880" y="3442680"/>
              <a:ext cx="0" cy="18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01400" y="3941280"/>
              <a:ext cx="134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lectromagnetis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ields are formed around current carrying wi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2556000" y="3141720"/>
            <a:ext cx="43988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Generato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If the coil rotates with speed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, then after time t the coil will have turned through angle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The flux will now be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= Bcos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t x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1492200" y="3919680"/>
            <a:ext cx="6465600" cy="2445840"/>
            <a:chOff x="1492200" y="3919680"/>
            <a:chExt cx="6465600" cy="2445840"/>
          </a:xfrm>
        </p:grpSpPr>
        <p:grpSp>
          <p:nvGrpSpPr>
            <p:cNvPr id="1084" name=""/>
            <p:cNvGrpSpPr/>
            <p:nvPr/>
          </p:nvGrpSpPr>
          <p:grpSpPr>
            <a:xfrm>
              <a:off x="1492200" y="3943440"/>
              <a:ext cx="6465600" cy="2422080"/>
              <a:chOff x="1492200" y="3943440"/>
              <a:chExt cx="6465600" cy="2422080"/>
            </a:xfrm>
          </p:grpSpPr>
          <p:grpSp>
            <p:nvGrpSpPr>
              <p:cNvPr id="1085" name=""/>
              <p:cNvGrpSpPr/>
              <p:nvPr/>
            </p:nvGrpSpPr>
            <p:grpSpPr>
              <a:xfrm>
                <a:off x="1492200" y="3943440"/>
                <a:ext cx="6465600" cy="2422080"/>
                <a:chOff x="1492200" y="3943440"/>
                <a:chExt cx="6465600" cy="2422080"/>
              </a:xfrm>
            </p:grpSpPr>
            <p:grpSp>
              <p:nvGrpSpPr>
                <p:cNvPr id="1086" name=""/>
                <p:cNvGrpSpPr/>
                <p:nvPr/>
              </p:nvGrpSpPr>
              <p:grpSpPr>
                <a:xfrm>
                  <a:off x="1492200" y="3943440"/>
                  <a:ext cx="6465600" cy="2422080"/>
                  <a:chOff x="1492200" y="3943440"/>
                  <a:chExt cx="6465600" cy="2422080"/>
                </a:xfrm>
              </p:grpSpPr>
              <p:sp>
                <p:nvSpPr>
                  <p:cNvPr id="1087" name=""/>
                  <p:cNvSpPr/>
                  <p:nvPr/>
                </p:nvSpPr>
                <p:spPr>
                  <a:xfrm>
                    <a:off x="1492200" y="3943440"/>
                    <a:ext cx="1211400" cy="242208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6746400" y="3943440"/>
                    <a:ext cx="1211400" cy="242208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9" name=""/>
                <p:cNvGrpSpPr/>
                <p:nvPr/>
              </p:nvGrpSpPr>
              <p:grpSpPr>
                <a:xfrm>
                  <a:off x="1626120" y="4617360"/>
                  <a:ext cx="6198480" cy="459720"/>
                  <a:chOff x="1626120" y="4617360"/>
                  <a:chExt cx="6198480" cy="45972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1626120" y="4617360"/>
                    <a:ext cx="944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NZ" sz="2400" spc="-1" strike="noStrike">
                        <a:solidFill>
                          <a:srgbClr val="ffffff"/>
                        </a:solidFill>
                        <a:latin typeface="Arial"/>
                      </a:rPr>
                      <a:t>N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7016400" y="4617360"/>
                    <a:ext cx="808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NZ" sz="2400" spc="-1" strike="noStrike">
                        <a:solidFill>
                          <a:srgbClr val="ffffff"/>
                        </a:solidFill>
                        <a:latin typeface="Arial"/>
                      </a:rPr>
                      <a:t>S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2" name=""/>
              <p:cNvGrpSpPr/>
              <p:nvPr/>
            </p:nvGrpSpPr>
            <p:grpSpPr>
              <a:xfrm>
                <a:off x="2704680" y="4076640"/>
                <a:ext cx="4041720" cy="2021760"/>
                <a:chOff x="2704680" y="4076640"/>
                <a:chExt cx="4041720" cy="202176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2704680" y="4076640"/>
                  <a:ext cx="4041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2704680" y="4750560"/>
                  <a:ext cx="4041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2704680" y="5424480"/>
                  <a:ext cx="4041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2704680" y="6098400"/>
                  <a:ext cx="4041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7" name=""/>
            <p:cNvGrpSpPr/>
            <p:nvPr/>
          </p:nvGrpSpPr>
          <p:grpSpPr>
            <a:xfrm>
              <a:off x="3571920" y="3919680"/>
              <a:ext cx="2165760" cy="2307960"/>
              <a:chOff x="3571920" y="3919680"/>
              <a:chExt cx="2165760" cy="2307960"/>
            </a:xfrm>
          </p:grpSpPr>
          <p:grpSp>
            <p:nvGrpSpPr>
              <p:cNvPr id="1098" name=""/>
              <p:cNvGrpSpPr/>
              <p:nvPr/>
            </p:nvGrpSpPr>
            <p:grpSpPr>
              <a:xfrm>
                <a:off x="3571920" y="3919680"/>
                <a:ext cx="2165760" cy="2307960"/>
                <a:chOff x="3571920" y="3919680"/>
                <a:chExt cx="2165760" cy="2307960"/>
              </a:xfrm>
            </p:grpSpPr>
            <p:sp>
              <p:nvSpPr>
                <p:cNvPr id="1099" name=""/>
                <p:cNvSpPr/>
                <p:nvPr/>
              </p:nvSpPr>
              <p:spPr>
                <a:xfrm rot="2500200">
                  <a:off x="3720240" y="5358240"/>
                  <a:ext cx="720360" cy="72072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2500200">
                  <a:off x="4868640" y="4067640"/>
                  <a:ext cx="720360" cy="72072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1" name=""/>
              <p:cNvSpPr/>
              <p:nvPr/>
            </p:nvSpPr>
            <p:spPr>
              <a:xfrm>
                <a:off x="5211360" y="4122000"/>
                <a:ext cx="35280" cy="60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>
                <a:off x="4827240" y="4408920"/>
                <a:ext cx="706320" cy="14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2500200">
                <a:off x="3938760" y="5592600"/>
                <a:ext cx="285840" cy="285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>
                <a:off x="4323960" y="4677120"/>
                <a:ext cx="656640" cy="73764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>
              <a:off x="4946040" y="5381280"/>
              <a:ext cx="12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023160" y="4036680"/>
              <a:ext cx="81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4505400" y="4767840"/>
              <a:ext cx="1228680" cy="146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4072320" y="3930480"/>
              <a:ext cx="19080" cy="18032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 rot="16200000">
              <a:off x="4199760" y="4633200"/>
              <a:ext cx="341280" cy="572040"/>
            </a:xfrm>
            <a:custGeom>
              <a:avLst/>
              <a:gdLst/>
              <a:ahLst/>
              <a:rect l="l" t="t" r="r" b="b"/>
              <a:pathLst>
                <a:path w="142" h="238">
                  <a:moveTo>
                    <a:pt x="0" y="0"/>
                  </a:moveTo>
                  <a:cubicBezTo>
                    <a:pt x="48" y="35"/>
                    <a:pt x="96" y="70"/>
                    <a:pt x="119" y="110"/>
                  </a:cubicBezTo>
                  <a:cubicBezTo>
                    <a:pt x="142" y="150"/>
                    <a:pt x="134" y="217"/>
                    <a:pt x="137" y="23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197600" y="4152240"/>
              <a:ext cx="114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Generato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Faraday’s Law say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For a coil of N tur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4572000" y="1628640"/>
                <a:ext cx="4032360" cy="335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φ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4500720" y="5373720"/>
                <a:ext cx="3286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AN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Generato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formula for alternating generator voltage is often written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here V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=BAN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is produces a voltage-time graph that looks like a sine cur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NB. Similarities to SHM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2843280" y="2708280"/>
                <a:ext cx="40384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Generato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o generate A.C, </a:t>
            </a: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slip rings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are us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0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835344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Generato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o generate D.C, </a:t>
            </a: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split rings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are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3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83534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39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enoi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Fields are formed in solenoids or coil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427640" y="476640"/>
            <a:ext cx="3682440" cy="5624280"/>
            <a:chOff x="4427640" y="476640"/>
            <a:chExt cx="3682440" cy="5624280"/>
          </a:xfrm>
        </p:grpSpPr>
        <p:grpSp>
          <p:nvGrpSpPr>
            <p:cNvPr id="529" name=""/>
            <p:cNvGrpSpPr/>
            <p:nvPr/>
          </p:nvGrpSpPr>
          <p:grpSpPr>
            <a:xfrm>
              <a:off x="4427640" y="950400"/>
              <a:ext cx="1545480" cy="4596480"/>
              <a:chOff x="4427640" y="950400"/>
              <a:chExt cx="1545480" cy="45964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4427640" y="969840"/>
                <a:ext cx="738720" cy="4555440"/>
                <a:chOff x="4427640" y="969840"/>
                <a:chExt cx="738720" cy="4555440"/>
              </a:xfrm>
            </p:grpSpPr>
            <p:grpSp>
              <p:nvGrpSpPr>
                <p:cNvPr id="531" name=""/>
                <p:cNvGrpSpPr/>
                <p:nvPr/>
              </p:nvGrpSpPr>
              <p:grpSpPr>
                <a:xfrm>
                  <a:off x="4427640" y="4034880"/>
                  <a:ext cx="738720" cy="732240"/>
                  <a:chOff x="4427640" y="4034880"/>
                  <a:chExt cx="738720" cy="732240"/>
                </a:xfrm>
              </p:grpSpPr>
              <p:grpSp>
                <p:nvGrpSpPr>
                  <p:cNvPr id="532" name=""/>
                  <p:cNvGrpSpPr/>
                  <p:nvPr/>
                </p:nvGrpSpPr>
                <p:grpSpPr>
                  <a:xfrm>
                    <a:off x="4427640" y="4034880"/>
                    <a:ext cx="738720" cy="732240"/>
                    <a:chOff x="4427640" y="4034880"/>
                    <a:chExt cx="738720" cy="732240"/>
                  </a:xfrm>
                </p:grpSpPr>
                <p:grpSp>
                  <p:nvGrpSpPr>
                    <p:cNvPr id="533" name=""/>
                    <p:cNvGrpSpPr/>
                    <p:nvPr/>
                  </p:nvGrpSpPr>
                  <p:grpSpPr>
                    <a:xfrm>
                      <a:off x="4427640" y="4034880"/>
                      <a:ext cx="738720" cy="732240"/>
                      <a:chOff x="4427640" y="4034880"/>
                      <a:chExt cx="738720" cy="732240"/>
                    </a:xfrm>
                  </p:grpSpPr>
                  <p:sp>
                    <p:nvSpPr>
                      <p:cNvPr id="534" name=""/>
                      <p:cNvSpPr/>
                      <p:nvPr/>
                    </p:nvSpPr>
                    <p:spPr>
                      <a:xfrm rot="16200000">
                        <a:off x="4434120" y="4034880"/>
                        <a:ext cx="732240" cy="7322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"/>
                      <p:cNvSpPr/>
                      <p:nvPr/>
                    </p:nvSpPr>
                    <p:spPr>
                      <a:xfrm flipV="1">
                        <a:off x="5157000" y="437436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6" name=""/>
                      <p:cNvSpPr/>
                      <p:nvPr/>
                    </p:nvSpPr>
                    <p:spPr>
                      <a:xfrm>
                        <a:off x="4427640" y="441648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7" name=""/>
                    <p:cNvGrpSpPr/>
                    <p:nvPr/>
                  </p:nvGrpSpPr>
                  <p:grpSpPr>
                    <a:xfrm>
                      <a:off x="4539600" y="4146120"/>
                      <a:ext cx="521280" cy="511920"/>
                      <a:chOff x="4539600" y="4146120"/>
                      <a:chExt cx="521280" cy="511920"/>
                    </a:xfrm>
                  </p:grpSpPr>
                  <p:sp>
                    <p:nvSpPr>
                      <p:cNvPr id="538" name=""/>
                      <p:cNvSpPr/>
                      <p:nvPr/>
                    </p:nvSpPr>
                    <p:spPr>
                      <a:xfrm rot="16200000">
                        <a:off x="4541760" y="4146120"/>
                        <a:ext cx="511920" cy="51156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"/>
                      <p:cNvSpPr/>
                      <p:nvPr/>
                    </p:nvSpPr>
                    <p:spPr>
                      <a:xfrm flipV="1">
                        <a:off x="5060880" y="436140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"/>
                      <p:cNvSpPr/>
                      <p:nvPr/>
                    </p:nvSpPr>
                    <p:spPr>
                      <a:xfrm>
                        <a:off x="4539600" y="441396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41" name=""/>
                    <p:cNvSpPr/>
                    <p:nvPr/>
                  </p:nvSpPr>
                  <p:spPr>
                    <a:xfrm rot="16200000">
                      <a:off x="4663800" y="4255200"/>
                      <a:ext cx="264600" cy="26496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2" name=""/>
                  <p:cNvSpPr/>
                  <p:nvPr/>
                </p:nvSpPr>
                <p:spPr>
                  <a:xfrm rot="16200000">
                    <a:off x="4752720" y="4355640"/>
                    <a:ext cx="82080" cy="82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520" bIns="11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4427640" y="4793040"/>
                  <a:ext cx="738720" cy="732240"/>
                  <a:chOff x="4427640" y="4793040"/>
                  <a:chExt cx="738720" cy="732240"/>
                </a:xfrm>
              </p:grpSpPr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4427640" y="4793040"/>
                    <a:ext cx="738720" cy="732240"/>
                    <a:chOff x="4427640" y="4793040"/>
                    <a:chExt cx="738720" cy="732240"/>
                  </a:xfrm>
                </p:grpSpPr>
                <p:grpSp>
                  <p:nvGrpSpPr>
                    <p:cNvPr id="545" name=""/>
                    <p:cNvGrpSpPr/>
                    <p:nvPr/>
                  </p:nvGrpSpPr>
                  <p:grpSpPr>
                    <a:xfrm>
                      <a:off x="4427640" y="4793040"/>
                      <a:ext cx="738720" cy="732240"/>
                      <a:chOff x="4427640" y="4793040"/>
                      <a:chExt cx="738720" cy="732240"/>
                    </a:xfrm>
                  </p:grpSpPr>
                  <p:sp>
                    <p:nvSpPr>
                      <p:cNvPr id="546" name=""/>
                      <p:cNvSpPr/>
                      <p:nvPr/>
                    </p:nvSpPr>
                    <p:spPr>
                      <a:xfrm rot="16200000">
                        <a:off x="4434120" y="4793040"/>
                        <a:ext cx="732240" cy="7322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 flipV="1">
                        <a:off x="5157000" y="513252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"/>
                      <p:cNvSpPr/>
                      <p:nvPr/>
                    </p:nvSpPr>
                    <p:spPr>
                      <a:xfrm>
                        <a:off x="4427640" y="517464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9" name=""/>
                    <p:cNvGrpSpPr/>
                    <p:nvPr/>
                  </p:nvGrpSpPr>
                  <p:grpSpPr>
                    <a:xfrm>
                      <a:off x="4539600" y="4904280"/>
                      <a:ext cx="521280" cy="511920"/>
                      <a:chOff x="4539600" y="4904280"/>
                      <a:chExt cx="521280" cy="511920"/>
                    </a:xfrm>
                  </p:grpSpPr>
                  <p:sp>
                    <p:nvSpPr>
                      <p:cNvPr id="550" name=""/>
                      <p:cNvSpPr/>
                      <p:nvPr/>
                    </p:nvSpPr>
                    <p:spPr>
                      <a:xfrm rot="16200000">
                        <a:off x="4541760" y="4904280"/>
                        <a:ext cx="511920" cy="51156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1" name=""/>
                      <p:cNvSpPr/>
                      <p:nvPr/>
                    </p:nvSpPr>
                    <p:spPr>
                      <a:xfrm flipV="1">
                        <a:off x="5060880" y="511956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2" name=""/>
                      <p:cNvSpPr/>
                      <p:nvPr/>
                    </p:nvSpPr>
                    <p:spPr>
                      <a:xfrm>
                        <a:off x="4539600" y="517212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3" name=""/>
                    <p:cNvSpPr/>
                    <p:nvPr/>
                  </p:nvSpPr>
                  <p:spPr>
                    <a:xfrm rot="16200000">
                      <a:off x="4663800" y="5013360"/>
                      <a:ext cx="264600" cy="26496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4" name=""/>
                  <p:cNvSpPr/>
                  <p:nvPr/>
                </p:nvSpPr>
                <p:spPr>
                  <a:xfrm rot="16200000">
                    <a:off x="4752720" y="5113800"/>
                    <a:ext cx="82080" cy="82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520" bIns="11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4427640" y="3272760"/>
                  <a:ext cx="738720" cy="732240"/>
                  <a:chOff x="4427640" y="3272760"/>
                  <a:chExt cx="738720" cy="732240"/>
                </a:xfrm>
              </p:grpSpPr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4427640" y="3272760"/>
                    <a:ext cx="738720" cy="732240"/>
                    <a:chOff x="4427640" y="3272760"/>
                    <a:chExt cx="738720" cy="732240"/>
                  </a:xfrm>
                </p:grpSpPr>
                <p:grpSp>
                  <p:nvGrpSpPr>
                    <p:cNvPr id="557" name=""/>
                    <p:cNvGrpSpPr/>
                    <p:nvPr/>
                  </p:nvGrpSpPr>
                  <p:grpSpPr>
                    <a:xfrm>
                      <a:off x="4427640" y="3272760"/>
                      <a:ext cx="738720" cy="732240"/>
                      <a:chOff x="4427640" y="3272760"/>
                      <a:chExt cx="738720" cy="732240"/>
                    </a:xfrm>
                  </p:grpSpPr>
                  <p:sp>
                    <p:nvSpPr>
                      <p:cNvPr id="558" name=""/>
                      <p:cNvSpPr/>
                      <p:nvPr/>
                    </p:nvSpPr>
                    <p:spPr>
                      <a:xfrm rot="16200000">
                        <a:off x="4434120" y="3272760"/>
                        <a:ext cx="732240" cy="7322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9" name=""/>
                      <p:cNvSpPr/>
                      <p:nvPr/>
                    </p:nvSpPr>
                    <p:spPr>
                      <a:xfrm flipV="1">
                        <a:off x="5157000" y="361224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0" name=""/>
                      <p:cNvSpPr/>
                      <p:nvPr/>
                    </p:nvSpPr>
                    <p:spPr>
                      <a:xfrm>
                        <a:off x="4427640" y="365436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61" name=""/>
                    <p:cNvGrpSpPr/>
                    <p:nvPr/>
                  </p:nvGrpSpPr>
                  <p:grpSpPr>
                    <a:xfrm>
                      <a:off x="4539600" y="3384000"/>
                      <a:ext cx="521280" cy="511920"/>
                      <a:chOff x="4539600" y="3384000"/>
                      <a:chExt cx="521280" cy="511920"/>
                    </a:xfrm>
                  </p:grpSpPr>
                  <p:sp>
                    <p:nvSpPr>
                      <p:cNvPr id="562" name=""/>
                      <p:cNvSpPr/>
                      <p:nvPr/>
                    </p:nvSpPr>
                    <p:spPr>
                      <a:xfrm rot="16200000">
                        <a:off x="4541760" y="3384000"/>
                        <a:ext cx="511920" cy="51156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3" name=""/>
                      <p:cNvSpPr/>
                      <p:nvPr/>
                    </p:nvSpPr>
                    <p:spPr>
                      <a:xfrm flipV="1">
                        <a:off x="5060880" y="359928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4" name=""/>
                      <p:cNvSpPr/>
                      <p:nvPr/>
                    </p:nvSpPr>
                    <p:spPr>
                      <a:xfrm>
                        <a:off x="4539600" y="365184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65" name=""/>
                    <p:cNvSpPr/>
                    <p:nvPr/>
                  </p:nvSpPr>
                  <p:spPr>
                    <a:xfrm rot="16200000">
                      <a:off x="4663800" y="3493080"/>
                      <a:ext cx="264600" cy="26496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6" name=""/>
                  <p:cNvSpPr/>
                  <p:nvPr/>
                </p:nvSpPr>
                <p:spPr>
                  <a:xfrm rot="16200000">
                    <a:off x="4752720" y="3593520"/>
                    <a:ext cx="82080" cy="82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520" bIns="11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4427640" y="2518560"/>
                  <a:ext cx="738720" cy="732600"/>
                  <a:chOff x="4427640" y="2518560"/>
                  <a:chExt cx="738720" cy="732600"/>
                </a:xfrm>
              </p:grpSpPr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4427640" y="2518560"/>
                    <a:ext cx="738720" cy="732600"/>
                    <a:chOff x="4427640" y="2518560"/>
                    <a:chExt cx="738720" cy="732600"/>
                  </a:xfrm>
                </p:grpSpPr>
                <p:grpSp>
                  <p:nvGrpSpPr>
                    <p:cNvPr id="569" name=""/>
                    <p:cNvGrpSpPr/>
                    <p:nvPr/>
                  </p:nvGrpSpPr>
                  <p:grpSpPr>
                    <a:xfrm>
                      <a:off x="4427640" y="2518560"/>
                      <a:ext cx="738720" cy="732600"/>
                      <a:chOff x="4427640" y="2518560"/>
                      <a:chExt cx="738720" cy="732600"/>
                    </a:xfrm>
                  </p:grpSpPr>
                  <p:sp>
                    <p:nvSpPr>
                      <p:cNvPr id="570" name=""/>
                      <p:cNvSpPr/>
                      <p:nvPr/>
                    </p:nvSpPr>
                    <p:spPr>
                      <a:xfrm rot="16200000">
                        <a:off x="4433760" y="2518560"/>
                        <a:ext cx="732600" cy="7322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1" name=""/>
                      <p:cNvSpPr/>
                      <p:nvPr/>
                    </p:nvSpPr>
                    <p:spPr>
                      <a:xfrm flipV="1">
                        <a:off x="5157000" y="285840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2" name=""/>
                      <p:cNvSpPr/>
                      <p:nvPr/>
                    </p:nvSpPr>
                    <p:spPr>
                      <a:xfrm>
                        <a:off x="4427640" y="290052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3" name=""/>
                    <p:cNvGrpSpPr/>
                    <p:nvPr/>
                  </p:nvGrpSpPr>
                  <p:grpSpPr>
                    <a:xfrm>
                      <a:off x="4539600" y="2630160"/>
                      <a:ext cx="521280" cy="511920"/>
                      <a:chOff x="4539600" y="2630160"/>
                      <a:chExt cx="521280" cy="511920"/>
                    </a:xfrm>
                  </p:grpSpPr>
                  <p:sp>
                    <p:nvSpPr>
                      <p:cNvPr id="574" name=""/>
                      <p:cNvSpPr/>
                      <p:nvPr/>
                    </p:nvSpPr>
                    <p:spPr>
                      <a:xfrm rot="16200000">
                        <a:off x="4541760" y="2630160"/>
                        <a:ext cx="511920" cy="51156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5" name=""/>
                      <p:cNvSpPr/>
                      <p:nvPr/>
                    </p:nvSpPr>
                    <p:spPr>
                      <a:xfrm flipV="1">
                        <a:off x="5060880" y="284544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6" name=""/>
                      <p:cNvSpPr/>
                      <p:nvPr/>
                    </p:nvSpPr>
                    <p:spPr>
                      <a:xfrm>
                        <a:off x="4539600" y="289800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77" name=""/>
                    <p:cNvSpPr/>
                    <p:nvPr/>
                  </p:nvSpPr>
                  <p:spPr>
                    <a:xfrm rot="16200000">
                      <a:off x="4663800" y="2738880"/>
                      <a:ext cx="264600" cy="26496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8" name=""/>
                  <p:cNvSpPr/>
                  <p:nvPr/>
                </p:nvSpPr>
                <p:spPr>
                  <a:xfrm rot="16200000">
                    <a:off x="4752360" y="2838960"/>
                    <a:ext cx="82440" cy="82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520" bIns="11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4427640" y="1739880"/>
                  <a:ext cx="738720" cy="732600"/>
                  <a:chOff x="4427640" y="1739880"/>
                  <a:chExt cx="738720" cy="732600"/>
                </a:xfrm>
              </p:grpSpPr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4427640" y="1739880"/>
                    <a:ext cx="738720" cy="732600"/>
                    <a:chOff x="4427640" y="1739880"/>
                    <a:chExt cx="738720" cy="732600"/>
                  </a:xfrm>
                </p:grpSpPr>
                <p:grpSp>
                  <p:nvGrpSpPr>
                    <p:cNvPr id="581" name=""/>
                    <p:cNvGrpSpPr/>
                    <p:nvPr/>
                  </p:nvGrpSpPr>
                  <p:grpSpPr>
                    <a:xfrm>
                      <a:off x="4427640" y="1739880"/>
                      <a:ext cx="738720" cy="732600"/>
                      <a:chOff x="4427640" y="1739880"/>
                      <a:chExt cx="738720" cy="732600"/>
                    </a:xfrm>
                  </p:grpSpPr>
                  <p:sp>
                    <p:nvSpPr>
                      <p:cNvPr id="582" name=""/>
                      <p:cNvSpPr/>
                      <p:nvPr/>
                    </p:nvSpPr>
                    <p:spPr>
                      <a:xfrm rot="16200000">
                        <a:off x="4433760" y="1739880"/>
                        <a:ext cx="732600" cy="7322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3" name=""/>
                      <p:cNvSpPr/>
                      <p:nvPr/>
                    </p:nvSpPr>
                    <p:spPr>
                      <a:xfrm flipV="1">
                        <a:off x="5157000" y="207972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"/>
                      <p:cNvSpPr/>
                      <p:nvPr/>
                    </p:nvSpPr>
                    <p:spPr>
                      <a:xfrm>
                        <a:off x="4427640" y="212184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5" name=""/>
                    <p:cNvGrpSpPr/>
                    <p:nvPr/>
                  </p:nvGrpSpPr>
                  <p:grpSpPr>
                    <a:xfrm>
                      <a:off x="4539600" y="1851480"/>
                      <a:ext cx="521280" cy="511920"/>
                      <a:chOff x="4539600" y="1851480"/>
                      <a:chExt cx="521280" cy="511920"/>
                    </a:xfrm>
                  </p:grpSpPr>
                  <p:sp>
                    <p:nvSpPr>
                      <p:cNvPr id="586" name=""/>
                      <p:cNvSpPr/>
                      <p:nvPr/>
                    </p:nvSpPr>
                    <p:spPr>
                      <a:xfrm rot="16200000">
                        <a:off x="4541760" y="1851480"/>
                        <a:ext cx="511920" cy="51156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"/>
                      <p:cNvSpPr/>
                      <p:nvPr/>
                    </p:nvSpPr>
                    <p:spPr>
                      <a:xfrm flipV="1">
                        <a:off x="5060880" y="206676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"/>
                      <p:cNvSpPr/>
                      <p:nvPr/>
                    </p:nvSpPr>
                    <p:spPr>
                      <a:xfrm>
                        <a:off x="4539600" y="211932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89" name=""/>
                    <p:cNvSpPr/>
                    <p:nvPr/>
                  </p:nvSpPr>
                  <p:spPr>
                    <a:xfrm rot="16200000">
                      <a:off x="4663800" y="1960200"/>
                      <a:ext cx="264600" cy="26496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0" name=""/>
                  <p:cNvSpPr/>
                  <p:nvPr/>
                </p:nvSpPr>
                <p:spPr>
                  <a:xfrm rot="16200000">
                    <a:off x="4752360" y="2060280"/>
                    <a:ext cx="82440" cy="82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520" bIns="11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4427640" y="969840"/>
                  <a:ext cx="738720" cy="732240"/>
                  <a:chOff x="4427640" y="969840"/>
                  <a:chExt cx="738720" cy="732240"/>
                </a:xfrm>
              </p:grpSpPr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4427640" y="969840"/>
                    <a:ext cx="738720" cy="732240"/>
                    <a:chOff x="4427640" y="969840"/>
                    <a:chExt cx="738720" cy="732240"/>
                  </a:xfrm>
                </p:grpSpPr>
                <p:grpSp>
                  <p:nvGrpSpPr>
                    <p:cNvPr id="593" name=""/>
                    <p:cNvGrpSpPr/>
                    <p:nvPr/>
                  </p:nvGrpSpPr>
                  <p:grpSpPr>
                    <a:xfrm>
                      <a:off x="4427640" y="969840"/>
                      <a:ext cx="738720" cy="732240"/>
                      <a:chOff x="4427640" y="969840"/>
                      <a:chExt cx="738720" cy="732240"/>
                    </a:xfrm>
                  </p:grpSpPr>
                  <p:sp>
                    <p:nvSpPr>
                      <p:cNvPr id="594" name=""/>
                      <p:cNvSpPr/>
                      <p:nvPr/>
                    </p:nvSpPr>
                    <p:spPr>
                      <a:xfrm rot="16200000">
                        <a:off x="4434120" y="969840"/>
                        <a:ext cx="732240" cy="7322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"/>
                      <p:cNvSpPr/>
                      <p:nvPr/>
                    </p:nvSpPr>
                    <p:spPr>
                      <a:xfrm flipV="1">
                        <a:off x="5157000" y="130932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6" name=""/>
                      <p:cNvSpPr/>
                      <p:nvPr/>
                    </p:nvSpPr>
                    <p:spPr>
                      <a:xfrm>
                        <a:off x="4427640" y="135144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7" name=""/>
                    <p:cNvGrpSpPr/>
                    <p:nvPr/>
                  </p:nvGrpSpPr>
                  <p:grpSpPr>
                    <a:xfrm>
                      <a:off x="4539600" y="1081080"/>
                      <a:ext cx="521280" cy="511920"/>
                      <a:chOff x="4539600" y="1081080"/>
                      <a:chExt cx="521280" cy="511920"/>
                    </a:xfrm>
                  </p:grpSpPr>
                  <p:sp>
                    <p:nvSpPr>
                      <p:cNvPr id="598" name=""/>
                      <p:cNvSpPr/>
                      <p:nvPr/>
                    </p:nvSpPr>
                    <p:spPr>
                      <a:xfrm rot="16200000">
                        <a:off x="4541760" y="1081080"/>
                        <a:ext cx="511920" cy="51156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"/>
                      <p:cNvSpPr/>
                      <p:nvPr/>
                    </p:nvSpPr>
                    <p:spPr>
                      <a:xfrm flipV="1">
                        <a:off x="5060880" y="129636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0" name=""/>
                      <p:cNvSpPr/>
                      <p:nvPr/>
                    </p:nvSpPr>
                    <p:spPr>
                      <a:xfrm>
                        <a:off x="4539600" y="134892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1" name=""/>
                    <p:cNvSpPr/>
                    <p:nvPr/>
                  </p:nvSpPr>
                  <p:spPr>
                    <a:xfrm rot="16200000">
                      <a:off x="4663800" y="1190160"/>
                      <a:ext cx="264600" cy="26496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2" name=""/>
                  <p:cNvSpPr/>
                  <p:nvPr/>
                </p:nvSpPr>
                <p:spPr>
                  <a:xfrm rot="16200000">
                    <a:off x="4752720" y="1290600"/>
                    <a:ext cx="82080" cy="82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520" bIns="11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3" name=""/>
              <p:cNvGrpSpPr/>
              <p:nvPr/>
            </p:nvGrpSpPr>
            <p:grpSpPr>
              <a:xfrm>
                <a:off x="5234040" y="950400"/>
                <a:ext cx="739080" cy="4596480"/>
                <a:chOff x="5234040" y="950400"/>
                <a:chExt cx="739080" cy="4596480"/>
              </a:xfrm>
            </p:grpSpPr>
            <p:grpSp>
              <p:nvGrpSpPr>
                <p:cNvPr id="604" name=""/>
                <p:cNvGrpSpPr/>
                <p:nvPr/>
              </p:nvGrpSpPr>
              <p:grpSpPr>
                <a:xfrm>
                  <a:off x="5234040" y="4814640"/>
                  <a:ext cx="739080" cy="732240"/>
                  <a:chOff x="5234040" y="4814640"/>
                  <a:chExt cx="739080" cy="732240"/>
                </a:xfrm>
              </p:grpSpPr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5234040" y="4814640"/>
                    <a:ext cx="739080" cy="732240"/>
                    <a:chOff x="5234040" y="4814640"/>
                    <a:chExt cx="739080" cy="73224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flipH="1" rot="16200000">
                      <a:off x="5240160" y="4814280"/>
                      <a:ext cx="732240" cy="7326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5963760" y="518076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 flipV="1">
                      <a:off x="5234040" y="513864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flipH="1" rot="16200000">
                      <a:off x="5348520" y="4923360"/>
                      <a:ext cx="511920" cy="5122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>
                      <a:off x="5868000" y="519408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 flipV="1">
                      <a:off x="5346000" y="514152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2" name=""/>
                  <p:cNvGrpSpPr/>
                  <p:nvPr/>
                </p:nvGrpSpPr>
                <p:grpSpPr>
                  <a:xfrm>
                    <a:off x="5470560" y="5044680"/>
                    <a:ext cx="264600" cy="264600"/>
                    <a:chOff x="5470560" y="5044680"/>
                    <a:chExt cx="264600" cy="264600"/>
                  </a:xfrm>
                </p:grpSpPr>
                <p:sp>
                  <p:nvSpPr>
                    <p:cNvPr id="613" name=""/>
                    <p:cNvSpPr/>
                    <p:nvPr/>
                  </p:nvSpPr>
                  <p:spPr>
                    <a:xfrm rot="16200000">
                      <a:off x="5470560" y="5044680"/>
                      <a:ext cx="264600" cy="26460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 flipV="1">
                      <a:off x="5531040" y="512604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5541840" y="513468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16" name=""/>
                <p:cNvGrpSpPr/>
                <p:nvPr/>
              </p:nvGrpSpPr>
              <p:grpSpPr>
                <a:xfrm>
                  <a:off x="5234040" y="3269880"/>
                  <a:ext cx="739080" cy="732240"/>
                  <a:chOff x="5234040" y="3269880"/>
                  <a:chExt cx="739080" cy="732240"/>
                </a:xfrm>
              </p:grpSpPr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5234040" y="3269880"/>
                    <a:ext cx="739080" cy="732240"/>
                    <a:chOff x="5234040" y="3269880"/>
                    <a:chExt cx="739080" cy="73224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flipH="1" rot="16200000">
                      <a:off x="5240160" y="3269520"/>
                      <a:ext cx="732240" cy="7326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5963760" y="363600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"/>
                    <p:cNvSpPr/>
                    <p:nvPr/>
                  </p:nvSpPr>
                  <p:spPr>
                    <a:xfrm flipV="1">
                      <a:off x="5234040" y="359388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 flipH="1" rot="16200000">
                      <a:off x="5348520" y="3378600"/>
                      <a:ext cx="511920" cy="5122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5868000" y="364932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 flipV="1">
                      <a:off x="5346000" y="359676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4" name=""/>
                  <p:cNvGrpSpPr/>
                  <p:nvPr/>
                </p:nvGrpSpPr>
                <p:grpSpPr>
                  <a:xfrm>
                    <a:off x="5470560" y="3499920"/>
                    <a:ext cx="264600" cy="264600"/>
                    <a:chOff x="5470560" y="3499920"/>
                    <a:chExt cx="264600" cy="264600"/>
                  </a:xfrm>
                </p:grpSpPr>
                <p:sp>
                  <p:nvSpPr>
                    <p:cNvPr id="625" name=""/>
                    <p:cNvSpPr/>
                    <p:nvPr/>
                  </p:nvSpPr>
                  <p:spPr>
                    <a:xfrm rot="16200000">
                      <a:off x="5470560" y="3499920"/>
                      <a:ext cx="264600" cy="26460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 flipV="1">
                      <a:off x="5531040" y="358128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5541840" y="358992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5234040" y="4043160"/>
                  <a:ext cx="739080" cy="732240"/>
                  <a:chOff x="5234040" y="4043160"/>
                  <a:chExt cx="739080" cy="732240"/>
                </a:xfrm>
              </p:grpSpPr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5234040" y="4043160"/>
                    <a:ext cx="739080" cy="732240"/>
                    <a:chOff x="5234040" y="4043160"/>
                    <a:chExt cx="739080" cy="73224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16200000">
                      <a:off x="5240160" y="4042800"/>
                      <a:ext cx="732240" cy="7326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>
                      <a:off x="5963760" y="440928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 flipV="1">
                      <a:off x="5234040" y="436716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 flipH="1" rot="16200000">
                      <a:off x="5348520" y="4151880"/>
                      <a:ext cx="511920" cy="5122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>
                      <a:off x="5868000" y="442260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 flipV="1">
                      <a:off x="5346000" y="437004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6" name=""/>
                  <p:cNvGrpSpPr/>
                  <p:nvPr/>
                </p:nvGrpSpPr>
                <p:grpSpPr>
                  <a:xfrm>
                    <a:off x="5470560" y="4273200"/>
                    <a:ext cx="264600" cy="264600"/>
                    <a:chOff x="5470560" y="4273200"/>
                    <a:chExt cx="264600" cy="264600"/>
                  </a:xfrm>
                </p:grpSpPr>
                <p:sp>
                  <p:nvSpPr>
                    <p:cNvPr id="637" name=""/>
                    <p:cNvSpPr/>
                    <p:nvPr/>
                  </p:nvSpPr>
                  <p:spPr>
                    <a:xfrm rot="16200000">
                      <a:off x="5470560" y="4273200"/>
                      <a:ext cx="264600" cy="26460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 flipV="1">
                      <a:off x="5531040" y="435456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>
                      <a:off x="5541840" y="436320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5234040" y="2496960"/>
                  <a:ext cx="739080" cy="732240"/>
                  <a:chOff x="5234040" y="2496960"/>
                  <a:chExt cx="739080" cy="732240"/>
                </a:xfrm>
              </p:grpSpPr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5234040" y="2496960"/>
                    <a:ext cx="739080" cy="732240"/>
                    <a:chOff x="5234040" y="2496960"/>
                    <a:chExt cx="739080" cy="73224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flipH="1" rot="16200000">
                      <a:off x="5240160" y="2496600"/>
                      <a:ext cx="732240" cy="7326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5963760" y="286308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 flipV="1">
                      <a:off x="5234040" y="282096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flipH="1" rot="16200000">
                      <a:off x="5348520" y="2605680"/>
                      <a:ext cx="511920" cy="5122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5868000" y="287640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 flipV="1">
                      <a:off x="5346000" y="282384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5470560" y="2727000"/>
                    <a:ext cx="264600" cy="264600"/>
                    <a:chOff x="5470560" y="2727000"/>
                    <a:chExt cx="264600" cy="26460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 rot="16200000">
                      <a:off x="5470560" y="2727000"/>
                      <a:ext cx="264600" cy="26460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 flipV="1">
                      <a:off x="5531040" y="280836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5541840" y="281700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5234040" y="1723680"/>
                  <a:ext cx="739080" cy="732240"/>
                  <a:chOff x="5234040" y="1723680"/>
                  <a:chExt cx="739080" cy="732240"/>
                </a:xfrm>
              </p:grpSpPr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5234040" y="1723680"/>
                    <a:ext cx="739080" cy="732240"/>
                    <a:chOff x="5234040" y="1723680"/>
                    <a:chExt cx="739080" cy="73224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flipH="1" rot="16200000">
                      <a:off x="5240160" y="1723320"/>
                      <a:ext cx="732240" cy="7326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>
                      <a:off x="5963760" y="208980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 flipV="1">
                      <a:off x="5234040" y="204768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H="1" rot="16200000">
                      <a:off x="5348520" y="1832400"/>
                      <a:ext cx="511920" cy="5122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>
                      <a:off x="5868000" y="210312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 flipV="1">
                      <a:off x="5346000" y="205056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0" name=""/>
                  <p:cNvGrpSpPr/>
                  <p:nvPr/>
                </p:nvGrpSpPr>
                <p:grpSpPr>
                  <a:xfrm>
                    <a:off x="5470560" y="1953720"/>
                    <a:ext cx="264600" cy="264600"/>
                    <a:chOff x="5470560" y="1953720"/>
                    <a:chExt cx="264600" cy="264600"/>
                  </a:xfrm>
                </p:grpSpPr>
                <p:sp>
                  <p:nvSpPr>
                    <p:cNvPr id="661" name=""/>
                    <p:cNvSpPr/>
                    <p:nvPr/>
                  </p:nvSpPr>
                  <p:spPr>
                    <a:xfrm rot="16200000">
                      <a:off x="5470560" y="1953720"/>
                      <a:ext cx="264600" cy="26460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 flipV="1">
                      <a:off x="5531040" y="203508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5541840" y="204372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64" name=""/>
                <p:cNvGrpSpPr/>
                <p:nvPr/>
              </p:nvGrpSpPr>
              <p:grpSpPr>
                <a:xfrm>
                  <a:off x="5234040" y="950400"/>
                  <a:ext cx="739080" cy="732240"/>
                  <a:chOff x="5234040" y="950400"/>
                  <a:chExt cx="739080" cy="732240"/>
                </a:xfrm>
              </p:grpSpPr>
              <p:grpSp>
                <p:nvGrpSpPr>
                  <p:cNvPr id="665" name=""/>
                  <p:cNvGrpSpPr/>
                  <p:nvPr/>
                </p:nvGrpSpPr>
                <p:grpSpPr>
                  <a:xfrm>
                    <a:off x="5234040" y="950400"/>
                    <a:ext cx="739080" cy="732240"/>
                    <a:chOff x="5234040" y="950400"/>
                    <a:chExt cx="739080" cy="732240"/>
                  </a:xfrm>
                </p:grpSpPr>
                <p:sp>
                  <p:nvSpPr>
                    <p:cNvPr id="666" name=""/>
                    <p:cNvSpPr/>
                    <p:nvPr/>
                  </p:nvSpPr>
                  <p:spPr>
                    <a:xfrm flipH="1" rot="16200000">
                      <a:off x="5240160" y="950040"/>
                      <a:ext cx="732240" cy="7326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>
                      <a:off x="5963760" y="131652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 flipV="1">
                      <a:off x="5234040" y="127440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H="1" rot="16200000">
                      <a:off x="5348520" y="1059120"/>
                      <a:ext cx="511920" cy="5122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5868000" y="132984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 flipV="1">
                      <a:off x="5346000" y="127728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5470560" y="1180440"/>
                    <a:ext cx="264600" cy="264600"/>
                    <a:chOff x="5470560" y="1180440"/>
                    <a:chExt cx="264600" cy="26460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 rot="16200000">
                      <a:off x="5470560" y="1180440"/>
                      <a:ext cx="264600" cy="26460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 flipV="1">
                      <a:off x="5531040" y="126180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5541840" y="127044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676" name=""/>
            <p:cNvGrpSpPr/>
            <p:nvPr/>
          </p:nvGrpSpPr>
          <p:grpSpPr>
            <a:xfrm>
              <a:off x="6508800" y="476640"/>
              <a:ext cx="1601280" cy="5624280"/>
              <a:chOff x="6508800" y="476640"/>
              <a:chExt cx="1601280" cy="5624280"/>
            </a:xfrm>
          </p:grpSpPr>
          <p:sp>
            <p:nvSpPr>
              <p:cNvPr id="677" name=""/>
              <p:cNvSpPr/>
              <p:nvPr/>
            </p:nvSpPr>
            <p:spPr>
              <a:xfrm>
                <a:off x="8100360" y="524052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7370640" y="519876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004600" y="525420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7482960" y="520092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6200000">
                <a:off x="7607160" y="5103720"/>
                <a:ext cx="264600" cy="26460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7668000" y="5185080"/>
                <a:ext cx="137880" cy="100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679160" y="5193360"/>
                <a:ext cx="137520" cy="101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100360" y="369540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7370640" y="365328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004600" y="370872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7482960" y="365616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6200000">
                <a:off x="7607160" y="3558960"/>
                <a:ext cx="264600" cy="26460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7668000" y="3639960"/>
                <a:ext cx="137880" cy="101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679160" y="3648240"/>
                <a:ext cx="137520" cy="100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100360" y="446868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7370640" y="442692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004600" y="448236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6200000">
                <a:off x="7607160" y="4331880"/>
                <a:ext cx="264600" cy="26460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7668000" y="4413240"/>
                <a:ext cx="137880" cy="100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679160" y="4421520"/>
                <a:ext cx="137520" cy="101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100360" y="292248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7370640" y="288036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004600" y="293580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7482960" y="288324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6200000">
                <a:off x="7606800" y="2785320"/>
                <a:ext cx="264960" cy="26460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7668000" y="2866680"/>
                <a:ext cx="137880" cy="101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679160" y="2874960"/>
                <a:ext cx="137520" cy="101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100360" y="214920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7370640" y="210708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004600" y="216288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7482960" y="210960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6200000">
                <a:off x="7607160" y="2012400"/>
                <a:ext cx="264600" cy="26460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7668000" y="2093760"/>
                <a:ext cx="137880" cy="100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679160" y="2102040"/>
                <a:ext cx="137520" cy="101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100360" y="137592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7370640" y="133380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004600" y="138924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7482960" y="133668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16200000">
                <a:off x="7607160" y="1239480"/>
                <a:ext cx="264600" cy="26460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7668000" y="1320480"/>
                <a:ext cx="137880" cy="101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679160" y="1328760"/>
                <a:ext cx="137520" cy="100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16200000">
                <a:off x="5194800" y="3070080"/>
                <a:ext cx="5110920" cy="513360"/>
              </a:xfrm>
              <a:prstGeom prst="flowChartTerminator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9" name=""/>
              <p:cNvGrpSpPr/>
              <p:nvPr/>
            </p:nvGrpSpPr>
            <p:grpSpPr>
              <a:xfrm>
                <a:off x="6508800" y="476640"/>
                <a:ext cx="746640" cy="5578560"/>
                <a:chOff x="6508800" y="476640"/>
                <a:chExt cx="746640" cy="5578560"/>
              </a:xfrm>
            </p:grpSpPr>
            <p:sp>
              <p:nvSpPr>
                <p:cNvPr id="720" name=""/>
                <p:cNvSpPr/>
                <p:nvPr/>
              </p:nvSpPr>
              <p:spPr>
                <a:xfrm flipV="1">
                  <a:off x="7238160" y="438804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508800" y="4429800"/>
                  <a:ext cx="0" cy="27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V="1">
                  <a:off x="7142400" y="437436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620760" y="442692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rot="16200000">
                  <a:off x="6744960" y="4268520"/>
                  <a:ext cx="264600" cy="26496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rot="16200000">
                  <a:off x="6833520" y="4368600"/>
                  <a:ext cx="82440" cy="82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V="1">
                  <a:off x="7238160" y="514620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508800" y="518796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620760" y="5185440"/>
                  <a:ext cx="0" cy="27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rot="16200000">
                  <a:off x="6744960" y="5026680"/>
                  <a:ext cx="264600" cy="26496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rot="16200000">
                  <a:off x="6833520" y="5126760"/>
                  <a:ext cx="82440" cy="82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V="1">
                  <a:off x="7238160" y="362556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508800" y="3667680"/>
                  <a:ext cx="0" cy="27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V="1">
                  <a:off x="7142400" y="361188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6620760" y="366480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rot="16200000">
                  <a:off x="6744960" y="3506040"/>
                  <a:ext cx="264600" cy="26496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rot="16200000">
                  <a:off x="6833520" y="3606120"/>
                  <a:ext cx="82440" cy="82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V="1">
                  <a:off x="7238160" y="287100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508800" y="291312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V="1">
                  <a:off x="7142400" y="285768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620760" y="291024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rot="16200000">
                  <a:off x="6744960" y="2751840"/>
                  <a:ext cx="264600" cy="26496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rot="16200000">
                  <a:off x="6833520" y="2851920"/>
                  <a:ext cx="82440" cy="82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V="1">
                  <a:off x="7238160" y="209268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6508800" y="213444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flipV="1">
                  <a:off x="7142400" y="207900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620760" y="213192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rot="16200000">
                  <a:off x="6744960" y="1973160"/>
                  <a:ext cx="264600" cy="26496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rot="16200000">
                  <a:off x="6833520" y="2073240"/>
                  <a:ext cx="82440" cy="82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V="1">
                  <a:off x="7238160" y="1321920"/>
                  <a:ext cx="0" cy="27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6508800" y="136404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V="1">
                  <a:off x="7142400" y="1308240"/>
                  <a:ext cx="0" cy="27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6620760" y="1361520"/>
                  <a:ext cx="0" cy="27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rot="16200000">
                  <a:off x="6744960" y="1202760"/>
                  <a:ext cx="264960" cy="26496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rot="16200000">
                  <a:off x="6833520" y="1302840"/>
                  <a:ext cx="82440" cy="82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rot="16200000">
                  <a:off x="4326120" y="3024720"/>
                  <a:ext cx="5110560" cy="513360"/>
                </a:xfrm>
                <a:prstGeom prst="flowChartTerminator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rot="16200000">
                  <a:off x="4095360" y="2895120"/>
                  <a:ext cx="5578560" cy="741600"/>
                </a:xfrm>
                <a:prstGeom prst="flowChartTerminator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"/>
              <p:cNvSpPr/>
              <p:nvPr/>
            </p:nvSpPr>
            <p:spPr>
              <a:xfrm rot="16200000">
                <a:off x="4949640" y="2940480"/>
                <a:ext cx="5578560" cy="741960"/>
              </a:xfrm>
              <a:prstGeom prst="flowChartTerminator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du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40384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 wire is moved through a magnetic field then a voltage can b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duc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cross the ends the w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68000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Indu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f the wire is connected to a circuit then current will flow. The direction of induced current is determined by a right hand ru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3825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ight Hand Slap Ru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=direction of wire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=direction of magnetic field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= force on a positive charge (ie direction of current flo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4"/>
          <a:stretch/>
        </p:blipFill>
        <p:spPr>
          <a:xfrm>
            <a:off x="4648320" y="1932120"/>
            <a:ext cx="4038480" cy="38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Indu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416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size of this induced voltage is given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V=Bv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(B=mag field strength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v=velocity of movemen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L=length of wire in fiel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is is known as </a:t>
            </a: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Faraday’s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du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rection of the induced current is such that it creates an opposing force on the motion that is causing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known as Lenz’s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116000" y="3068280"/>
            <a:ext cx="6552360" cy="3389400"/>
            <a:chOff x="1116000" y="3068280"/>
            <a:chExt cx="6552360" cy="3389400"/>
          </a:xfrm>
        </p:grpSpPr>
        <p:sp>
          <p:nvSpPr>
            <p:cNvPr id="772" name=""/>
            <p:cNvSpPr/>
            <p:nvPr/>
          </p:nvSpPr>
          <p:spPr>
            <a:xfrm>
              <a:off x="1116000" y="4518000"/>
              <a:ext cx="213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ffffff"/>
                  </a:solidFill>
                  <a:latin typeface="Arial"/>
                </a:rPr>
                <a:t>Opposing Force F=BI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2541600" y="3068280"/>
              <a:ext cx="5126760" cy="3389400"/>
              <a:chOff x="2541600" y="3068280"/>
              <a:chExt cx="5126760" cy="3389400"/>
            </a:xfrm>
          </p:grpSpPr>
          <p:grpSp>
            <p:nvGrpSpPr>
              <p:cNvPr id="774" name=""/>
              <p:cNvGrpSpPr/>
              <p:nvPr/>
            </p:nvGrpSpPr>
            <p:grpSpPr>
              <a:xfrm>
                <a:off x="3391200" y="3068280"/>
                <a:ext cx="2354760" cy="3389400"/>
                <a:chOff x="3391200" y="3068280"/>
                <a:chExt cx="2354760" cy="3389400"/>
              </a:xfrm>
            </p:grpSpPr>
            <p:grpSp>
              <p:nvGrpSpPr>
                <p:cNvPr id="775" name=""/>
                <p:cNvGrpSpPr/>
                <p:nvPr/>
              </p:nvGrpSpPr>
              <p:grpSpPr>
                <a:xfrm>
                  <a:off x="4055040" y="3068280"/>
                  <a:ext cx="362160" cy="3389400"/>
                  <a:chOff x="4055040" y="3068280"/>
                  <a:chExt cx="362160" cy="3389400"/>
                </a:xfrm>
              </p:grpSpPr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4055040" y="3068280"/>
                    <a:ext cx="362160" cy="286560"/>
                    <a:chOff x="4055040" y="3068280"/>
                    <a:chExt cx="362160" cy="28656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>
                      <a:off x="4055040" y="306864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flipV="1">
                      <a:off x="4055040" y="306828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4055040" y="3688560"/>
                    <a:ext cx="362160" cy="285840"/>
                    <a:chOff x="4055040" y="3688560"/>
                    <a:chExt cx="362160" cy="28584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>
                      <a:off x="4055040" y="368856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flipV="1">
                      <a:off x="4055040" y="368856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4055040" y="4929480"/>
                    <a:ext cx="362160" cy="285840"/>
                    <a:chOff x="4055040" y="4929480"/>
                    <a:chExt cx="362160" cy="28584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>
                      <a:off x="4055040" y="492948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flipV="1">
                      <a:off x="4055040" y="492948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4055040" y="4309560"/>
                    <a:ext cx="362160" cy="285840"/>
                    <a:chOff x="4055040" y="4309560"/>
                    <a:chExt cx="362160" cy="2858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>
                      <a:off x="4055040" y="430956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flipV="1">
                      <a:off x="4055040" y="430956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4055040" y="5550840"/>
                    <a:ext cx="362160" cy="285840"/>
                    <a:chOff x="4055040" y="5550840"/>
                    <a:chExt cx="362160" cy="28584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>
                      <a:off x="4055040" y="555084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flipV="1">
                      <a:off x="4055040" y="555084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1" name=""/>
                  <p:cNvGrpSpPr/>
                  <p:nvPr/>
                </p:nvGrpSpPr>
                <p:grpSpPr>
                  <a:xfrm>
                    <a:off x="4055040" y="6171120"/>
                    <a:ext cx="362160" cy="286560"/>
                    <a:chOff x="4055040" y="6171120"/>
                    <a:chExt cx="362160" cy="286560"/>
                  </a:xfrm>
                </p:grpSpPr>
                <p:sp>
                  <p:nvSpPr>
                    <p:cNvPr id="792" name=""/>
                    <p:cNvSpPr/>
                    <p:nvPr/>
                  </p:nvSpPr>
                  <p:spPr>
                    <a:xfrm>
                      <a:off x="4055040" y="617148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"/>
                    <p:cNvSpPr/>
                    <p:nvPr/>
                  </p:nvSpPr>
                  <p:spPr>
                    <a:xfrm flipV="1">
                      <a:off x="4055040" y="617112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4" name=""/>
                <p:cNvGrpSpPr/>
                <p:nvPr/>
              </p:nvGrpSpPr>
              <p:grpSpPr>
                <a:xfrm>
                  <a:off x="4719600" y="3068280"/>
                  <a:ext cx="361800" cy="3389400"/>
                  <a:chOff x="4719600" y="3068280"/>
                  <a:chExt cx="361800" cy="3389400"/>
                </a:xfrm>
              </p:grpSpPr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4719600" y="3068280"/>
                    <a:ext cx="361800" cy="286560"/>
                    <a:chOff x="4719600" y="3068280"/>
                    <a:chExt cx="361800" cy="286560"/>
                  </a:xfrm>
                </p:grpSpPr>
                <p:sp>
                  <p:nvSpPr>
                    <p:cNvPr id="796" name=""/>
                    <p:cNvSpPr/>
                    <p:nvPr/>
                  </p:nvSpPr>
                  <p:spPr>
                    <a:xfrm>
                      <a:off x="4719600" y="306864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 flipV="1">
                      <a:off x="4719600" y="306828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8" name=""/>
                  <p:cNvGrpSpPr/>
                  <p:nvPr/>
                </p:nvGrpSpPr>
                <p:grpSpPr>
                  <a:xfrm>
                    <a:off x="4719600" y="3688560"/>
                    <a:ext cx="361800" cy="285840"/>
                    <a:chOff x="4719600" y="3688560"/>
                    <a:chExt cx="361800" cy="285840"/>
                  </a:xfrm>
                </p:grpSpPr>
                <p:sp>
                  <p:nvSpPr>
                    <p:cNvPr id="799" name=""/>
                    <p:cNvSpPr/>
                    <p:nvPr/>
                  </p:nvSpPr>
                  <p:spPr>
                    <a:xfrm>
                      <a:off x="4719600" y="368856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 flipV="1">
                      <a:off x="4719600" y="368856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4719600" y="4929480"/>
                    <a:ext cx="361800" cy="285840"/>
                    <a:chOff x="4719600" y="4929480"/>
                    <a:chExt cx="361800" cy="285840"/>
                  </a:xfrm>
                </p:grpSpPr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4719600" y="492948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 flipV="1">
                      <a:off x="4719600" y="492948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4719600" y="4309560"/>
                    <a:ext cx="361800" cy="285840"/>
                    <a:chOff x="4719600" y="4309560"/>
                    <a:chExt cx="361800" cy="285840"/>
                  </a:xfrm>
                </p:grpSpPr>
                <p:sp>
                  <p:nvSpPr>
                    <p:cNvPr id="805" name=""/>
                    <p:cNvSpPr/>
                    <p:nvPr/>
                  </p:nvSpPr>
                  <p:spPr>
                    <a:xfrm>
                      <a:off x="4719600" y="430956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 flipV="1">
                      <a:off x="4719600" y="430956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7" name=""/>
                  <p:cNvGrpSpPr/>
                  <p:nvPr/>
                </p:nvGrpSpPr>
                <p:grpSpPr>
                  <a:xfrm>
                    <a:off x="4719600" y="5550840"/>
                    <a:ext cx="361800" cy="285840"/>
                    <a:chOff x="4719600" y="5550840"/>
                    <a:chExt cx="361800" cy="285840"/>
                  </a:xfrm>
                </p:grpSpPr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4719600" y="555084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 flipV="1">
                      <a:off x="4719600" y="555084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4719600" y="6171120"/>
                    <a:ext cx="361800" cy="286560"/>
                    <a:chOff x="4719600" y="6171120"/>
                    <a:chExt cx="361800" cy="286560"/>
                  </a:xfrm>
                </p:grpSpPr>
                <p:sp>
                  <p:nvSpPr>
                    <p:cNvPr id="811" name=""/>
                    <p:cNvSpPr/>
                    <p:nvPr/>
                  </p:nvSpPr>
                  <p:spPr>
                    <a:xfrm>
                      <a:off x="4719600" y="617148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 flipV="1">
                      <a:off x="4719600" y="617112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13" name=""/>
                <p:cNvGrpSpPr/>
                <p:nvPr/>
              </p:nvGrpSpPr>
              <p:grpSpPr>
                <a:xfrm>
                  <a:off x="5383800" y="3068280"/>
                  <a:ext cx="362160" cy="3389400"/>
                  <a:chOff x="5383800" y="3068280"/>
                  <a:chExt cx="362160" cy="3389400"/>
                </a:xfrm>
              </p:grpSpPr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5383800" y="3068280"/>
                    <a:ext cx="362160" cy="286560"/>
                    <a:chOff x="5383800" y="3068280"/>
                    <a:chExt cx="362160" cy="28656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5383800" y="306864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 flipV="1">
                      <a:off x="5383800" y="306828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5383800" y="3688560"/>
                    <a:ext cx="362160" cy="285840"/>
                    <a:chOff x="5383800" y="3688560"/>
                    <a:chExt cx="362160" cy="28584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>
                      <a:off x="5383800" y="368856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flipV="1">
                      <a:off x="5383800" y="368856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5383800" y="4929480"/>
                    <a:ext cx="362160" cy="285840"/>
                    <a:chOff x="5383800" y="4929480"/>
                    <a:chExt cx="362160" cy="28584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5383800" y="492948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 flipV="1">
                      <a:off x="5383800" y="492948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5383800" y="4309560"/>
                    <a:ext cx="362160" cy="285840"/>
                    <a:chOff x="5383800" y="4309560"/>
                    <a:chExt cx="362160" cy="28584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5383800" y="430956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flipV="1">
                      <a:off x="5383800" y="430956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6" name=""/>
                  <p:cNvGrpSpPr/>
                  <p:nvPr/>
                </p:nvGrpSpPr>
                <p:grpSpPr>
                  <a:xfrm>
                    <a:off x="5383800" y="5550840"/>
                    <a:ext cx="362160" cy="285840"/>
                    <a:chOff x="5383800" y="5550840"/>
                    <a:chExt cx="362160" cy="285840"/>
                  </a:xfrm>
                </p:grpSpPr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5383800" y="555084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 flipV="1">
                      <a:off x="5383800" y="555084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9" name=""/>
                  <p:cNvGrpSpPr/>
                  <p:nvPr/>
                </p:nvGrpSpPr>
                <p:grpSpPr>
                  <a:xfrm>
                    <a:off x="5383800" y="6171120"/>
                    <a:ext cx="362160" cy="286560"/>
                    <a:chOff x="5383800" y="6171120"/>
                    <a:chExt cx="362160" cy="286560"/>
                  </a:xfrm>
                </p:grpSpPr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5383800" y="617148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 flipV="1">
                      <a:off x="5383800" y="617112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3391200" y="3068280"/>
                  <a:ext cx="361800" cy="3389400"/>
                  <a:chOff x="3391200" y="3068280"/>
                  <a:chExt cx="361800" cy="3389400"/>
                </a:xfrm>
              </p:grpSpPr>
              <p:grpSp>
                <p:nvGrpSpPr>
                  <p:cNvPr id="833" name=""/>
                  <p:cNvGrpSpPr/>
                  <p:nvPr/>
                </p:nvGrpSpPr>
                <p:grpSpPr>
                  <a:xfrm>
                    <a:off x="3391200" y="3068280"/>
                    <a:ext cx="361800" cy="286560"/>
                    <a:chOff x="3391200" y="3068280"/>
                    <a:chExt cx="361800" cy="286560"/>
                  </a:xfrm>
                </p:grpSpPr>
                <p:sp>
                  <p:nvSpPr>
                    <p:cNvPr id="834" name=""/>
                    <p:cNvSpPr/>
                    <p:nvPr/>
                  </p:nvSpPr>
                  <p:spPr>
                    <a:xfrm>
                      <a:off x="3391200" y="306864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 flipV="1">
                      <a:off x="3391200" y="306828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3391200" y="3688560"/>
                    <a:ext cx="361800" cy="285840"/>
                    <a:chOff x="3391200" y="3688560"/>
                    <a:chExt cx="361800" cy="28584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3391200" y="368856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 flipV="1">
                      <a:off x="3391200" y="368856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9" name=""/>
                  <p:cNvGrpSpPr/>
                  <p:nvPr/>
                </p:nvGrpSpPr>
                <p:grpSpPr>
                  <a:xfrm>
                    <a:off x="3391200" y="4929480"/>
                    <a:ext cx="361800" cy="285840"/>
                    <a:chOff x="3391200" y="4929480"/>
                    <a:chExt cx="361800" cy="285840"/>
                  </a:xfrm>
                </p:grpSpPr>
                <p:sp>
                  <p:nvSpPr>
                    <p:cNvPr id="840" name=""/>
                    <p:cNvSpPr/>
                    <p:nvPr/>
                  </p:nvSpPr>
                  <p:spPr>
                    <a:xfrm>
                      <a:off x="3391200" y="492948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 flipV="1">
                      <a:off x="3391200" y="492948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3391200" y="4309560"/>
                    <a:ext cx="361800" cy="285840"/>
                    <a:chOff x="3391200" y="4309560"/>
                    <a:chExt cx="361800" cy="285840"/>
                  </a:xfrm>
                </p:grpSpPr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3391200" y="430956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 flipV="1">
                      <a:off x="3391200" y="430956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5" name=""/>
                  <p:cNvGrpSpPr/>
                  <p:nvPr/>
                </p:nvGrpSpPr>
                <p:grpSpPr>
                  <a:xfrm>
                    <a:off x="3391200" y="5550840"/>
                    <a:ext cx="361800" cy="285840"/>
                    <a:chOff x="3391200" y="5550840"/>
                    <a:chExt cx="361800" cy="285840"/>
                  </a:xfrm>
                </p:grpSpPr>
                <p:sp>
                  <p:nvSpPr>
                    <p:cNvPr id="846" name=""/>
                    <p:cNvSpPr/>
                    <p:nvPr/>
                  </p:nvSpPr>
                  <p:spPr>
                    <a:xfrm>
                      <a:off x="3391200" y="555084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 flipV="1">
                      <a:off x="3391200" y="555084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8" name=""/>
                  <p:cNvGrpSpPr/>
                  <p:nvPr/>
                </p:nvGrpSpPr>
                <p:grpSpPr>
                  <a:xfrm>
                    <a:off x="3391200" y="6171120"/>
                    <a:ext cx="361800" cy="286560"/>
                    <a:chOff x="3391200" y="6171120"/>
                    <a:chExt cx="361800" cy="286560"/>
                  </a:xfrm>
                </p:grpSpPr>
                <p:sp>
                  <p:nvSpPr>
                    <p:cNvPr id="849" name=""/>
                    <p:cNvSpPr/>
                    <p:nvPr/>
                  </p:nvSpPr>
                  <p:spPr>
                    <a:xfrm>
                      <a:off x="3391200" y="617148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 flipV="1">
                      <a:off x="3391200" y="617112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851" name=""/>
              <p:cNvSpPr/>
              <p:nvPr/>
            </p:nvSpPr>
            <p:spPr>
              <a:xfrm>
                <a:off x="4036320" y="3551040"/>
                <a:ext cx="3632040" cy="2486160"/>
              </a:xfrm>
              <a:prstGeom prst="roundRect">
                <a:avLst>
                  <a:gd name="adj" fmla="val 16667"/>
                </a:avLst>
              </a:prstGeom>
              <a:noFill/>
              <a:ln w="540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036320" y="4863600"/>
                <a:ext cx="1140120" cy="138600"/>
              </a:xfrm>
              <a:prstGeom prst="rightArrow">
                <a:avLst>
                  <a:gd name="adj1" fmla="val 50000"/>
                  <a:gd name="adj2" fmla="val 205649"/>
                </a:avLst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2896560" y="4863600"/>
                <a:ext cx="1139760" cy="138600"/>
              </a:xfrm>
              <a:prstGeom prst="rightArrow">
                <a:avLst>
                  <a:gd name="adj1" fmla="val 50000"/>
                  <a:gd name="adj2" fmla="val 205584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460840" y="4588200"/>
                <a:ext cx="1780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400" spc="-1" strike="noStrike">
                    <a:solidFill>
                      <a:srgbClr val="ffffff"/>
                    </a:solidFill>
                    <a:latin typeface="Arial"/>
                  </a:rPr>
                  <a:t>Direction of movemen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4036320" y="4035240"/>
                <a:ext cx="0" cy="414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541600" y="3689640"/>
                <a:ext cx="1351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400" spc="-1" strike="noStrike">
                    <a:solidFill>
                      <a:srgbClr val="ffffff"/>
                    </a:solidFill>
                    <a:latin typeface="Arial"/>
                  </a:rPr>
                  <a:t>Induced current I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Indu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Induced voltage/current can be made larger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mag field is stro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wire is lo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movement is fa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(Solenoid has an iron c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3:09:25Z</dcterms:created>
  <dc:creator>Administrator</dc:creator>
  <dc:description/>
  <dc:language>en-US</dc:language>
  <cp:lastModifiedBy>Administrator</cp:lastModifiedBy>
  <dcterms:modified xsi:type="dcterms:W3CDTF">2005-08-04T04:05:30Z</dcterms:modified>
  <cp:revision>8</cp:revision>
  <dc:subject/>
  <dc:title>Magnetism and Induction</dc:title>
</cp:coreProperties>
</file>